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F668-EA59-4D6D-8A1B-CC4B45AAD3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EDB7-6A5F-409B-B2BB-DEB7CFCF8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B87-5719-44D8-8487-4A07112A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EEE-E243-4A07-A4BE-D0370F56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E45-04A7-45FC-9243-8222BF1F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D09-5D5A-422C-AD52-2881737F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87DE-3C27-4C14-A337-84EF7305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98B2-EECA-4451-B80C-1E18888B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E6F8-A7E3-4C22-83D3-E41CC350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14A1-E6F2-4CD0-89DD-0A177FF4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748F-61F9-472A-878D-E33D1134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818-1BD9-427B-8740-9890FF3A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563C-0E80-4D41-8E33-FF8106A7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175-9C37-4AEF-AB47-DD4BB311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B96-47F0-45B6-A826-B22F0313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8B68-6695-42EF-947B-0949305F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5D65-8753-470E-9DAF-5CC4C3C5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B305-9751-4FEB-8D0F-B3BF5D56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6220-A927-4BDE-B520-58C2C57F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AB35-F3C6-4B92-B225-01265D1B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A7B2-CF8A-48DE-B6FF-AE053D14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25DB0-182A-4F37-A8F7-7D10E1E0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4C5D-5450-45D3-AB6B-7464C474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B844-A743-410F-B921-3AA4A975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90A-7001-41E7-A1D0-11DE128D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2C949-6410-4526-BC83-1CC9FB97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FC37-1304-4138-AF56-1737424C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6331-27DA-4146-8600-E73D350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0F97-C756-469E-B69E-0A88BD26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6EC8-6108-44F7-A72E-CE32E14A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1455-7AD5-4A07-B261-2B51D82D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9700-C649-4349-B9CE-9D0E73F6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2C239-8336-46F1-A68B-955208BD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45B7-4C97-4C2F-93D4-1F23BD9D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F8C54-AA82-4CCF-BB6E-6B8C8ED7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D8C-2AD2-46E5-8B3C-C23849BF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3EB5-E608-4290-82E3-54B7F3AD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D898D-4867-4F8C-8117-B628204E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DEBF2-A1CC-406D-90F8-4C50D326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5761-3EB2-4A85-8E61-46BBCEC0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008E-1C26-4FA6-A7F7-1123F10B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A2F6-4035-4AF6-B668-4B6A4C9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7E947-53A4-44A0-8B00-B69AB126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E0304-8C65-4E3D-9FE4-4DD3FDCE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3F460-E148-4FB4-8CE2-318E4921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0311-723A-487E-8B0D-69791990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F9D-0720-4C76-BEB3-1EB3CD7F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60B62-CC9A-4350-AE52-65719083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A4362-BB33-4488-ABEA-6282EE4C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77E13-4144-4AD8-A3E3-FA2D75EC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12888-CE86-49BE-B379-F6A0008A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973DA-2FDA-4BC9-853B-49BDE733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AFBF9-77C7-4D31-8BCB-ACBCC021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FEE6D-FF7B-4CDC-B8CA-6231687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26C70-5AB9-4839-B32E-474C18BF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52341-D003-4437-B0D1-96118F4E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9B853-F481-4171-AC7D-2C9A2E2D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D7E-567C-4092-A7F7-05F93409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337E9-5E4B-4B6C-813A-34E193E8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C9415-95B2-4B1D-A3E5-DC85BF8C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C7D7C-D39A-45B9-B60C-AB6ACA4F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792F6-6581-43C6-B1D9-0744B869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5F9E3-CE18-44D4-A5BF-BFA9520F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6D722-3D8F-4C0E-991B-990E5C89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2F862-AC15-4FCA-BBF2-7155B156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C7841-9607-4AD2-AA22-63E8105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423F1-FFB7-4DB0-A24C-43E389CE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2BF2E-4829-41C0-96A8-DBD5D73F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5AF-07E9-44AE-A1A0-4BC97C6F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3603B-3910-41D3-AB5B-E877C6A0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3166E-17C3-4810-B6A0-920C1E1F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F9480-2DE1-4A48-AA32-DD571095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31399-7B50-45DC-B70D-B6E51E50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68146-BBD5-49FE-93D8-2DCD8B1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AA71C-55D2-45BF-9181-7BAAF263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84E55-411F-4DA1-92E8-212E177C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0C1A7-852E-445C-B297-A81A1558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241ED-8F7B-413C-8C6F-DF0AB7FE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77EE8-C4F8-45CB-98E9-C9F1AA9F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64A-735D-48AD-8792-2187EC1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485FD-FEC6-455A-A2FD-CA038BA1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75823-30A2-4262-9313-4B83CC2E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87DB0-9202-4484-9F6B-4271FC9D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B317E-D764-45B8-9C23-8595ADAF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E94CE-0516-413C-BA5F-75D69ECF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33936-C78A-4BC0-9CD2-F29B7807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DA377-DCC7-4614-B1A5-2FE4C486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23DF2-0F18-4CBD-AEEF-89FBF099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62537-0E46-4EEC-A3E9-193287AC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D8025-D969-4FC4-AD28-B59699B6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D31-37E9-4B3E-AED2-BA71A727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F426A-AB3B-426F-B2CF-FC56D394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03DBB-0CB5-4AE0-812E-E5947AF4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1BD50-EEEC-4708-BD26-0D612CDE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BFE3E-229C-45CF-B713-FD8AA8BA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A3391-8B86-4E6E-927E-2C0DA0B7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8BB8D-E658-40C1-AC68-8350CC04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1227-F161-436B-8246-E3B6AC1F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FA1E-CA0D-48AA-8860-259E0307B98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BAD1-8772-4E64-8FFA-32B50845C2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2693-7171-4C3B-B4E1-5FCA5852A5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9A85-1FAD-4C7C-B03A-CD110E9B66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A749-A03B-4956-829F-6C31E18D28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9FE7-0192-4BE0-B25D-9ED457CDEF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3773-49F1-4C2D-B7CC-B170B5A1AA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66F2-53DA-489F-A554-84C0783A00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0" descr=""/>
          <p:cNvPicPr/>
          <p:nvPr/>
        </p:nvPicPr>
        <p:blipFill>
          <a:blip r:embed="rId1"/>
          <a:stretch/>
        </p:blipFill>
        <p:spPr>
          <a:xfrm rot="21149400">
            <a:off x="2927160" y="3398760"/>
            <a:ext cx="3654360" cy="263376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  <p:pic>
        <p:nvPicPr>
          <p:cNvPr id="367" name="Picture 15" descr=""/>
          <p:cNvPicPr/>
          <p:nvPr/>
        </p:nvPicPr>
        <p:blipFill>
          <a:blip r:embed="rId2"/>
          <a:stretch/>
        </p:blipFill>
        <p:spPr>
          <a:xfrm rot="21107400">
            <a:off x="3839760" y="3855960"/>
            <a:ext cx="3975120" cy="228132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  <p:pic>
        <p:nvPicPr>
          <p:cNvPr id="368" name="Picture 9" descr=""/>
          <p:cNvPicPr/>
          <p:nvPr/>
        </p:nvPicPr>
        <p:blipFill>
          <a:blip r:embed="rId3"/>
          <a:stretch/>
        </p:blipFill>
        <p:spPr>
          <a:xfrm rot="741000">
            <a:off x="6162840" y="3370320"/>
            <a:ext cx="2185920" cy="308448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3120" y="1484280"/>
            <a:ext cx="85377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35e01"/>
                </a:solidFill>
                <a:latin typeface="Corbel"/>
              </a:rPr>
              <a:t>ПРОЕКТ ВНЕСЕНИЯ ИЗМЕНЕНИЙ </a:t>
            </a:r>
            <a:br>
              <a:rPr sz="2900"/>
            </a:br>
            <a:r>
              <a:rPr b="1" lang="ru-RU" sz="2900" spc="-1" strike="noStrike">
                <a:solidFill>
                  <a:srgbClr val="835e01"/>
                </a:solidFill>
                <a:latin typeface="Corbel"/>
              </a:rPr>
              <a:t>В ПРАВИЛА ЗЕМЛЕПОЛЬЗОВАНИЯ И ЗАСТРОЙКИ ГОРОДА ПЕРМ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0" name="Picture 18" descr=""/>
          <p:cNvPicPr/>
          <p:nvPr/>
        </p:nvPicPr>
        <p:blipFill>
          <a:blip r:embed="rId4"/>
          <a:stretch/>
        </p:blipFill>
        <p:spPr>
          <a:xfrm>
            <a:off x="457200" y="239760"/>
            <a:ext cx="2521080" cy="100332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12"/>
          <p:cNvSpPr/>
          <p:nvPr/>
        </p:nvSpPr>
        <p:spPr>
          <a:xfrm>
            <a:off x="4417920" y="291960"/>
            <a:ext cx="4572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иссия по землепользованию и застройке города Пер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3"/>
          <p:cNvSpPr/>
          <p:nvPr/>
        </p:nvSpPr>
        <p:spPr>
          <a:xfrm>
            <a:off x="4367160" y="703440"/>
            <a:ext cx="45720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партамент градостроитель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архитектуры администрации города Пер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9" descr=""/>
          <p:cNvPicPr/>
          <p:nvPr/>
        </p:nvPicPr>
        <p:blipFill>
          <a:blip r:embed="rId5"/>
          <a:stretch/>
        </p:blipFill>
        <p:spPr>
          <a:xfrm rot="741000">
            <a:off x="6059520" y="3421080"/>
            <a:ext cx="2185920" cy="3085920"/>
          </a:xfrm>
          <a:prstGeom prst="rect">
            <a:avLst/>
          </a:prstGeom>
          <a:ln w="9360">
            <a:solidFill>
              <a:srgbClr val="7ec3d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Содержимое 2"/>
          <p:cNvSpPr/>
          <p:nvPr/>
        </p:nvSpPr>
        <p:spPr>
          <a:xfrm>
            <a:off x="395280" y="620640"/>
            <a:ext cx="4105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одержимое 3"/>
          <p:cNvSpPr/>
          <p:nvPr/>
        </p:nvSpPr>
        <p:spPr>
          <a:xfrm>
            <a:off x="4643280" y="620640"/>
            <a:ext cx="4038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24000" y="115920"/>
          <a:ext cx="8496000" cy="3168720"/>
        </p:xfrm>
        <a:graphic>
          <a:graphicData uri="http://schemas.openxmlformats.org/drawingml/2006/table">
            <a:tbl>
              <a:tblPr/>
              <a:tblGrid>
                <a:gridCol w="4895640"/>
                <a:gridCol w="3600360"/>
              </a:tblGrid>
              <a:tr h="26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правление Судебного департамента в Пермском кра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им внести изменения в правила землепользования и застройки в части установления территориальной зоны обслуживания и деловой активности городского центра (Ц-1) в отношении территории, включающей земельный участок (предварительное согласование – площадь 6244 кв.м), расположенной южнее здания по ул. Куйбышева,109 в Свердловском районе города Перми, в целях строительства здания суд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астоящее время рассматриваемая территория находится в границах территории общего пользования - скверы, бульвары (ТОП-1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кол №7 от 04.04.2019 заседания комиссии по землепользованию и застройке г. Пер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ь предложение в виде отдельного проекта решения Пермской городской Думы «О внесении изменений в Правила землепользования и застройки города Перми, утвержденные решением Пермской городской Думы от 26.06.2007 № 143» (далее – проект) об изменении границы территориальной зоны обслуживания и деловой активности городского центра (Ц-1) и территории общего пользования – скверы, бульвары (ТОП-1), включив в границы территориальной зоны Ц-1 территорию площадью 8929 кв.м. южнее земельного участка с кадастровым номером 59:01:4411477:4 по улице Куйбышева,109 в Свердловском районе города Пер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готовности направить проект на публичные слуша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7" name="Рисунок 12" descr="Судебный департамент ТОП-1.jpg"/>
          <p:cNvPicPr/>
          <p:nvPr/>
        </p:nvPicPr>
        <p:blipFill>
          <a:blip r:embed="rId1"/>
          <a:srcRect l="24464" t="15659" r="1881" b="0"/>
          <a:stretch/>
        </p:blipFill>
        <p:spPr>
          <a:xfrm>
            <a:off x="684360" y="3182760"/>
            <a:ext cx="3600360" cy="35593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3" descr="Судебный департамент ТОП-1 в Ц-1.jpg"/>
          <p:cNvPicPr/>
          <p:nvPr/>
        </p:nvPicPr>
        <p:blipFill>
          <a:blip r:embed="rId2"/>
          <a:srcRect l="24553" t="15930" r="1792" b="0"/>
          <a:stretch/>
        </p:blipFill>
        <p:spPr>
          <a:xfrm>
            <a:off x="4859280" y="3182760"/>
            <a:ext cx="3600360" cy="3546720"/>
          </a:xfrm>
          <a:prstGeom prst="rect">
            <a:avLst/>
          </a:prstGeom>
          <a:ln w="0">
            <a:noFill/>
          </a:ln>
        </p:spPr>
      </p:pic>
      <p:pic>
        <p:nvPicPr>
          <p:cNvPr id="379" name="Стрелка вправо 9" descr=""/>
          <p:cNvPicPr/>
          <p:nvPr/>
        </p:nvPicPr>
        <p:blipFill>
          <a:blip r:embed="rId3"/>
          <a:stretch/>
        </p:blipFill>
        <p:spPr>
          <a:xfrm>
            <a:off x="4151160" y="4687920"/>
            <a:ext cx="8352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9:12:28Z</dcterms:created>
  <dc:creator>Vasileva</dc:creator>
  <dc:description/>
  <dc:language>en-US</dc:language>
  <cp:lastModifiedBy>onuchina-ai</cp:lastModifiedBy>
  <dcterms:modified xsi:type="dcterms:W3CDTF">2019-04-09T06:11:17Z</dcterms:modified>
  <cp:revision>1224</cp:revision>
  <dc:subject/>
  <dc:title>Слайд 1</dc:title>
</cp:coreProperties>
</file>