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96AB-FC13-40D1-83B2-12275F1116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F72F-79D1-45BD-B903-F94D3B9F9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C60-D8F2-49F5-8044-34B2A7874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DDA-E560-43AB-9C04-5ABC5E195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C41C-638F-4025-B62E-EB9D7FDEE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366-48C8-4C36-A1AF-FBE8DB52B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340-8BB3-4097-9A58-24D16F70A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8C7-94B9-4DE3-9119-2D61F26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7A6-6CB7-4861-865E-F2201E7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535-FC41-4620-97FB-894D658F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D51-9236-4E23-9960-745D43E7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6462-54C0-4F6F-9C23-FB45122C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586-EE45-4247-A042-E111079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3E9-B150-4517-BCF4-D8047215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478A-037C-4F71-8C11-44AE6058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279F-F77F-4810-8EC0-2AB804D7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69E8-B543-4501-93AD-B35B84BD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352E-D991-4A4F-A758-AE277E72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11A-9069-4511-B8BF-53434095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591-1F77-496F-87EF-A05E83D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0ED-4819-4BDB-B006-DD39353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BD4-0D56-441B-B1D6-0D89412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66A4-E16A-4B67-97DE-1DB81476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C79-7BF8-48A1-A64A-00C44532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F5E6-398C-4C1A-B393-44312641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2279-2B32-4775-AB15-9881B37A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CB33-A62D-432B-BC13-827C433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0C78-8421-4B64-8EEB-797C5B40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B945-997C-484E-BCC8-3C7B247D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AC9-BFC4-4C37-B534-2A4FCFB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9F82-5188-420D-BA46-5C3261B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3ACE-EEB1-4C5B-8BC4-838B0AC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483A-3A75-4757-BA06-D1F3A8E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2E9F-BCB3-45FC-8A2B-0A63A49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BBA5-2E77-4119-A8B3-EE007D3D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D0AC-2FB4-429F-B3DF-44221DC1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9743-DDB2-4637-AE31-27A96064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FB20-2C72-49D3-AF48-8A79981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E588-536E-4730-9842-FF05BBE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63FD-08AA-49BE-837F-4B5638C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300-B5AA-4465-87A6-051B0DF5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0A67-7E98-4FCD-9484-77E1A72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BB77-7F87-44D4-969C-1399E058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DA82-6A70-4DC0-906F-E86D58A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2F22-0ECA-4524-B98B-224B042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BE8B-E200-4B72-BB2E-43522FE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8077-68FC-44AF-9F62-D3ABA4B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5C9A-77DE-4449-BEFD-B399BDA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9504-7385-4406-8426-D57CD1F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2BFC-EC81-4019-95DF-0665AFCA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B0313-2BA1-4558-AEC2-3110C48D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712-066C-466E-9494-7B34580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4A9B-2D1B-4D77-9C75-FAFDF95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873A-5B2E-40D3-8262-20A342BE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7D4D-A23A-4768-939C-1DBAC00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F393-CD04-420E-9344-FD5E24DD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086F-1C11-45DA-84ED-3BA486FA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888F-15C7-421E-9FDC-B3AD2237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AF40-7B4F-4595-88D8-D10ECCB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263E-70E4-4624-A733-9AA0D58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3021-8E9A-4823-B0E6-FD50633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57D97-6976-40E4-A0F3-2CF8ABE4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839-FFDB-4543-B862-8BC1756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A1C9-EC02-4AE9-B294-05493566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4109-8756-428E-B18A-52DE149B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43EA5-E673-4AE0-A5AB-B0E0F5C5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4A0D-2925-4A6F-AD33-BB393C8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33B0-118D-49F1-B60A-27DA4D19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8C15-DAAA-42C2-96A4-1760B61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0E694-112E-466D-90D7-881AF610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D650-0B41-4A03-9EBB-8135469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09F4-3F85-4DCA-9761-AECC33B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DD61-F3A4-41AE-96A8-3D8AFCC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484-E386-4DAA-AA62-813EC179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3A05-D59D-48DC-B0AB-DC3C1AFF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5FF7-757A-4F3A-8EE8-114C5BFA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6C9D-7934-4449-8DC4-EE45FAE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9B26-2AF3-438B-9595-D57D3D97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B0299-518D-42BC-90ED-6144C89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B3A0-E73D-459D-A787-FD4EFAC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076E-D091-44A2-A7D3-6D7DDE0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B9AA-67BF-4615-971A-10D0EBFA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4446-FCD6-418A-8208-B3143A45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2821-6880-4775-9AB1-A7ABCDC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B53-7419-4C0E-BFDE-80C27F8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84F3-5F32-4F9A-BB6D-AA24D83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D523B-01C6-4821-83F6-106E582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6FD66-F39C-4DA6-8B34-519B161B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6A995-FA3F-43DF-8737-022A3AE6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0005-47F6-4788-8A87-B0F6B73A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AFAA-CC24-484A-BEAC-300D3076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69B16-FAF2-4F0B-A7E8-BD8070F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99E0B-356C-4C98-9600-DF2D9F5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4CF34-ADF0-4A75-AE0F-C549C33D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FE1F-5D7D-4FDC-8137-565F1E55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4DC-1A0C-41E9-93BF-4D117C3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F3F01-2E3F-404B-A3F8-4209AD2C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61D5-E36A-40C2-A699-7AB3A13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02C2-1B3A-4BF2-8B0C-FDE4500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C95C-F28B-47E0-A2F4-45A1C45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C016E-A519-4D52-A877-E08ED9C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0E44-0602-4D19-8894-60AECD29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39D50-0176-4A0C-A7FC-F770159D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D31-58BF-4D5C-BDB0-CBE6FABE22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72C-5386-45A1-BA07-0E21157E36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E22D-A412-463D-B70E-0AC9571B94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075-B279-42F4-92CF-AA1CDE6309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B79-C432-4EBE-9E11-E28168D6D6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1978-04CD-486A-8FB2-155F057CB0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D8E-591E-443D-A97B-AE7F725356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53E-47B6-47A2-8F48-5EFBD9B28A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" descr=""/>
          <p:cNvPicPr/>
          <p:nvPr/>
        </p:nvPicPr>
        <p:blipFill>
          <a:blip r:embed="rId1"/>
          <a:stretch/>
        </p:blipFill>
        <p:spPr>
          <a:xfrm rot="21149400">
            <a:off x="2927160" y="3398760"/>
            <a:ext cx="3654360" cy="263376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7" name="Picture 15" descr=""/>
          <p:cNvPicPr/>
          <p:nvPr/>
        </p:nvPicPr>
        <p:blipFill>
          <a:blip r:embed="rId2"/>
          <a:stretch/>
        </p:blipFill>
        <p:spPr>
          <a:xfrm rot="21107400">
            <a:off x="3839760" y="3855960"/>
            <a:ext cx="3975120" cy="22813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8" name="Picture 9" descr=""/>
          <p:cNvPicPr/>
          <p:nvPr/>
        </p:nvPicPr>
        <p:blipFill>
          <a:blip r:embed="rId3"/>
          <a:stretch/>
        </p:blipFill>
        <p:spPr>
          <a:xfrm rot="741000">
            <a:off x="6162840" y="3370320"/>
            <a:ext cx="2185920" cy="308448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3120" y="1525680"/>
            <a:ext cx="8537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ПРОЕКТ ВНЕСЕНИЯ ИЗМЕНЕНИЙ </a:t>
            </a:r>
            <a:br>
              <a:rPr sz="2900"/>
            </a:b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В ПРАВИЛА ЗЕМЛЕПОЛЬЗОВАНИЯ И ЗАСТРОЙКИ ГОРОДА ПЕРМ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18" descr=""/>
          <p:cNvPicPr/>
          <p:nvPr/>
        </p:nvPicPr>
        <p:blipFill>
          <a:blip r:embed="rId4"/>
          <a:stretch/>
        </p:blipFill>
        <p:spPr>
          <a:xfrm>
            <a:off x="457200" y="239760"/>
            <a:ext cx="2521080" cy="10033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2"/>
          <p:cNvSpPr/>
          <p:nvPr/>
        </p:nvSpPr>
        <p:spPr>
          <a:xfrm>
            <a:off x="4417920" y="291960"/>
            <a:ext cx="4572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иссия по землепользованию и застройке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4367160" y="703440"/>
            <a:ext cx="4572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партамент градострои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архитектуры администрации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5"/>
          <a:stretch/>
        </p:blipFill>
        <p:spPr>
          <a:xfrm rot="741000">
            <a:off x="6059520" y="3421080"/>
            <a:ext cx="2185920" cy="30859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ю в жилом районе Ново-Бродовский  ориентировочной площадью 107 га в Свердловском районе города Перм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1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Стрелка вправо 9" descr=""/>
          <p:cNvPicPr/>
          <p:nvPr/>
        </p:nvPicPr>
        <p:blipFill>
          <a:blip r:embed="rId1"/>
          <a:stretch/>
        </p:blipFill>
        <p:spPr>
          <a:xfrm>
            <a:off x="4151160" y="3681360"/>
            <a:ext cx="835200" cy="469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"/>
          <p:cNvPicPr/>
          <p:nvPr/>
        </p:nvPicPr>
        <p:blipFill>
          <a:blip r:embed="rId2"/>
          <a:srcRect l="34843" t="38367" r="32441" b="10342"/>
          <a:stretch/>
        </p:blipFill>
        <p:spPr>
          <a:xfrm>
            <a:off x="4932360" y="2492280"/>
            <a:ext cx="3816360" cy="3786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3933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ю вдоль долины реки Гайвы ориентировочной площадью 123 га в Дзержинском и Ленинском районах города Перми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2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Стрелка вправо 9" descr=""/>
          <p:cNvPicPr/>
          <p:nvPr/>
        </p:nvPicPr>
        <p:blipFill>
          <a:blip r:embed="rId1"/>
          <a:stretch/>
        </p:blipFill>
        <p:spPr>
          <a:xfrm>
            <a:off x="4151160" y="3681360"/>
            <a:ext cx="835200" cy="469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rcRect l="15847" t="0" r="18326" b="10283"/>
          <a:stretch/>
        </p:blipFill>
        <p:spPr>
          <a:xfrm>
            <a:off x="4932360" y="2492280"/>
            <a:ext cx="3887640" cy="3961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ю восточнее земельного участка с кадастровым номером 59:01:0710042:2 по улице Ново-Гайвинской, 118 ориентировочной площадью 6 га в Мотовилихинском районе города Перми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3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Стрелка вправо 9" descr=""/>
          <p:cNvPicPr/>
          <p:nvPr/>
        </p:nvPicPr>
        <p:blipFill>
          <a:blip r:embed="rId1"/>
          <a:stretch/>
        </p:blipFill>
        <p:spPr>
          <a:xfrm>
            <a:off x="4151160" y="3681360"/>
            <a:ext cx="835200" cy="469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rcRect l="12677" t="5087" r="43998" b="25427"/>
          <a:stretch/>
        </p:blipFill>
        <p:spPr>
          <a:xfrm>
            <a:off x="5070600" y="2708280"/>
            <a:ext cx="3246480" cy="3168720"/>
          </a:xfrm>
          <a:prstGeom prst="rect">
            <a:avLst/>
          </a:prstGeom>
          <a:ln w="0">
            <a:noFill/>
          </a:ln>
        </p:spPr>
      </p:pic>
      <p:sp>
        <p:nvSpPr>
          <p:cNvPr id="391" name="Овал 11"/>
          <p:cNvSpPr/>
          <p:nvPr/>
        </p:nvSpPr>
        <p:spPr>
          <a:xfrm>
            <a:off x="7093080" y="4508640"/>
            <a:ext cx="718920" cy="129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29527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и, расположенные севернее улицы Ласьвинской, 98 ориентировочными площадями 53 га в Кировском районе города Пер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4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rcRect l="28992" t="13975" r="42283" b="43980"/>
          <a:stretch/>
        </p:blipFill>
        <p:spPr>
          <a:xfrm>
            <a:off x="4932360" y="2565360"/>
            <a:ext cx="3887640" cy="3600360"/>
          </a:xfrm>
          <a:prstGeom prst="rect">
            <a:avLst/>
          </a:prstGeom>
          <a:ln w="0">
            <a:noFill/>
          </a:ln>
        </p:spPr>
      </p:pic>
      <p:pic>
        <p:nvPicPr>
          <p:cNvPr id="397" name="Стрелка вправо 9" descr=""/>
          <p:cNvPicPr/>
          <p:nvPr/>
        </p:nvPicPr>
        <p:blipFill>
          <a:blip r:embed="rId2"/>
          <a:stretch/>
        </p:blipFill>
        <p:spPr>
          <a:xfrm>
            <a:off x="4151160" y="3608280"/>
            <a:ext cx="835200" cy="470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"/>
          <p:cNvPicPr/>
          <p:nvPr/>
        </p:nvPicPr>
        <p:blipFill>
          <a:blip r:embed="rId3"/>
          <a:stretch/>
        </p:blipFill>
        <p:spPr>
          <a:xfrm>
            <a:off x="539640" y="2565360"/>
            <a:ext cx="36957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ю, расположенную восточнее СНТ «Березка-1» ориентировочной площадью  4 га в Кировском районе города Пер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5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Стрелка вправо 9" descr=""/>
          <p:cNvPicPr/>
          <p:nvPr/>
        </p:nvPicPr>
        <p:blipFill>
          <a:blip r:embed="rId1"/>
          <a:stretch/>
        </p:blipFill>
        <p:spPr>
          <a:xfrm>
            <a:off x="4151160" y="3608280"/>
            <a:ext cx="835200" cy="470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rcRect l="29524" t="49298" r="47602" b="12024"/>
          <a:stretch/>
        </p:blipFill>
        <p:spPr>
          <a:xfrm>
            <a:off x="5292720" y="2637000"/>
            <a:ext cx="3162240" cy="3384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32400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одержимое 2"/>
          <p:cNvSpPr/>
          <p:nvPr/>
        </p:nvSpPr>
        <p:spPr>
          <a:xfrm>
            <a:off x="395280" y="620640"/>
            <a:ext cx="410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е по экологии и природопользованию администрации города Пер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о внесении изменений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 внести предлагаемые изменения в территориальные зоны Правил землепользования и застройки города Перми: включить в границы территориальной зоны городских лесов (ГЛ) территорию, расположенную севернее улицы Короленко ориентировочной площадью 20 га в Дзержинском районе города Пер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лесхоз выразил позицию, что для изменения границ Пермского городского лесничества необходимо внесение в Правила землепользования и застройки города Перми в части изменения территориального зон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одержимое 3"/>
          <p:cNvSpPr/>
          <p:nvPr/>
        </p:nvSpPr>
        <p:spPr>
          <a:xfrm>
            <a:off x="4643280" y="62064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миссии по землепользованию и застройке города Перм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предлож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457200" y="274680"/>
            <a:ext cx="54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6 в проекте решения Пермской городской Д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Стрелка вправо 9" descr=""/>
          <p:cNvPicPr/>
          <p:nvPr/>
        </p:nvPicPr>
        <p:blipFill>
          <a:blip r:embed="rId1"/>
          <a:stretch/>
        </p:blipFill>
        <p:spPr>
          <a:xfrm>
            <a:off x="4151160" y="3608280"/>
            <a:ext cx="835200" cy="470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rcRect l="8772" t="42563" r="64098" b="20436"/>
          <a:stretch/>
        </p:blipFill>
        <p:spPr>
          <a:xfrm>
            <a:off x="4932360" y="2637000"/>
            <a:ext cx="3672000" cy="3168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4858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ryabova-aa</cp:lastModifiedBy>
  <dcterms:modified xsi:type="dcterms:W3CDTF">2018-10-23T10:37:44Z</dcterms:modified>
  <cp:revision>1082</cp:revision>
  <dc:subject/>
  <dc:title>Слайд 1</dc:title>
</cp:coreProperties>
</file>