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00" y="745920"/>
            <a:ext cx="66229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8FE-7640-46FE-A7AC-075574F2B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46E4-3079-4D50-AC4E-797852FDD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2BFC-FCD7-4E0E-B7A7-EFD1D3BF8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0AAE-C35C-497D-A91A-BD33B751F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E202-14B2-488C-938E-B9403F5D3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5F5B-CFB6-42F0-A2DA-6007C9ABE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475E-6E64-4994-A52F-B1CF7C467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222-14E7-449F-B370-AB0D7EB5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45D-D2E7-46D6-A8E5-D6B37C81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F7B-77C8-4740-B9F1-6840450E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0A3-01B7-40F3-889A-650D19B7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C69-131E-468E-9AF2-ECE7D5CF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916-DC0B-4616-9A4F-95A1E06C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C97-4C09-402A-BF03-FAF3FCDB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474-2FD8-4B29-9DA7-741A83C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00F-8E6B-4690-AF33-41A503DD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2C8-3480-4CCC-821B-54D4B5CB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E5F-E8FA-40C7-86A6-989303E3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7EC-A2A0-435D-A35E-7E90EF76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1A47-A1A7-4880-AF31-76A52867C6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9" descr="пзз.jpeg"/>
          <p:cNvPicPr/>
          <p:nvPr/>
        </p:nvPicPr>
        <p:blipFill>
          <a:blip r:embed="rId1"/>
          <a:stretch/>
        </p:blipFill>
        <p:spPr>
          <a:xfrm>
            <a:off x="4064040" y="1552680"/>
            <a:ext cx="5079960" cy="3591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275840"/>
            <a:ext cx="8537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ОЕКТ ВНЕСЕНИЯ ИЗМЕНЕНИЙ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В ПРАВИЛА ЗЕМЛЕПОЛЬЗОВАНИЯ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 ЗАСТРОЙКИ ГОРОДА ПЕР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2"/>
          <a:stretch/>
        </p:blipFill>
        <p:spPr>
          <a:xfrm>
            <a:off x="179280" y="123840"/>
            <a:ext cx="2016360" cy="7524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3"/>
          <p:cNvSpPr/>
          <p:nvPr/>
        </p:nvSpPr>
        <p:spPr>
          <a:xfrm>
            <a:off x="4427640" y="195120"/>
            <a:ext cx="457200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ссия по землепользованию и застройке 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градострои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рхитектуры администрации 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8000" y="11160"/>
          <a:ext cx="8929800" cy="1477800"/>
        </p:xfrm>
        <a:graphic>
          <a:graphicData uri="http://schemas.openxmlformats.org/drawingml/2006/table">
            <a:tbl>
              <a:tblPr/>
              <a:tblGrid>
                <a:gridCol w="5327640"/>
                <a:gridCol w="3602160"/>
              </a:tblGrid>
              <a:tr h="190440">
                <a:tc gridSpan="2"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ы 1.1.1 в проекте решения о внесении изменений в ПЗ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72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узин Сергей Валентин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земельного участка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6 кв.м.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ое зонирование: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удаленных городских центров (СТН-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КС:  –     ВРИ:  –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ить границы территориальных зон малоэтажной многоквартирной жилой застройки, индивидуального жилищного строительства и блокированной жилой застройки (Ж-3) и спортивных и спортивно-зрелищных сооружений (ЦС-3), включив в границы территориальной зоны малоэтажной многоквартирной жилой застройки, индивидуального жилищного строительства и блокированной жилой застройки (Ж-3) земельный участок с кадастровым номером 59:01:2912550:1 по переулку 4-му Гравийному, 14 в Орджоникидзевском районе города Пер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6 от 11.06.2020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Рисунок 37" descr="гравийный пзз.jpeg"/>
          <p:cNvPicPr/>
          <p:nvPr/>
        </p:nvPicPr>
        <p:blipFill>
          <a:blip r:embed="rId1"/>
          <a:stretch/>
        </p:blipFill>
        <p:spPr>
          <a:xfrm>
            <a:off x="395280" y="1492200"/>
            <a:ext cx="3529080" cy="3527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9" descr="гравийный проект.jpeg"/>
          <p:cNvPicPr/>
          <p:nvPr/>
        </p:nvPicPr>
        <p:blipFill>
          <a:blip r:embed="rId2"/>
          <a:stretch/>
        </p:blipFill>
        <p:spPr>
          <a:xfrm>
            <a:off x="4932360" y="1492200"/>
            <a:ext cx="3527280" cy="352764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40"/>
          <p:cNvSpPr/>
          <p:nvPr/>
        </p:nvSpPr>
        <p:spPr>
          <a:xfrm>
            <a:off x="3995640" y="3003480"/>
            <a:ext cx="79236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6" descr="веденеева пзз.jpeg"/>
          <p:cNvPicPr/>
          <p:nvPr/>
        </p:nvPicPr>
        <p:blipFill>
          <a:blip r:embed="rId1"/>
          <a:stretch/>
        </p:blipFill>
        <p:spPr>
          <a:xfrm>
            <a:off x="684360" y="1419120"/>
            <a:ext cx="3598560" cy="359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08000" y="11160"/>
          <a:ext cx="8929800" cy="1477800"/>
        </p:xfrm>
        <a:graphic>
          <a:graphicData uri="http://schemas.openxmlformats.org/drawingml/2006/table">
            <a:tbl>
              <a:tblPr/>
              <a:tblGrid>
                <a:gridCol w="5327640"/>
                <a:gridCol w="3602160"/>
              </a:tblGrid>
              <a:tr h="190440">
                <a:tc gridSpan="2"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2 в проекте решения о внесении изменений в ПЗ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72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ы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О «Научно-производственное объединение «Искр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земельного участка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Пермь, Орджоникидзевский район, ул. Академика Веденеева, 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: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 677 кв.м.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ое зонирование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о-торговая зона (ТСП-ПТ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КС: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эт. административное здание.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И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азмещения промышленн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ить границы  территориальных зон производственно-коммунальных объектов V класса вредности (ПК-5), обслуживания и деловой активности местного значения (Ц-2), рекреационно-ландшафтных территорий (Р-2), включив в границы территориальной зоны производственно-коммунальных объектов V класса вредности (ПК-5) земельный участок с кадастровым номером 59:01:3812180:10 по улице Академика Веденеева, 28 в Орджоникидзевском районе города Перми, согласно приложению 2 к настоящему решению;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7 от 02.07.2020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Рисунок 7" descr="Р2.jpeg"/>
          <p:cNvPicPr/>
          <p:nvPr/>
        </p:nvPicPr>
        <p:blipFill>
          <a:blip r:embed="rId2"/>
          <a:stretch/>
        </p:blipFill>
        <p:spPr>
          <a:xfrm>
            <a:off x="5076720" y="1492200"/>
            <a:ext cx="2880000" cy="1727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Ц-2.jpeg"/>
          <p:cNvPicPr/>
          <p:nvPr/>
        </p:nvPicPr>
        <p:blipFill>
          <a:blip r:embed="rId3"/>
          <a:stretch/>
        </p:blipFill>
        <p:spPr>
          <a:xfrm>
            <a:off x="5076720" y="3292560"/>
            <a:ext cx="2880000" cy="1725480"/>
          </a:xfrm>
          <a:prstGeom prst="rect">
            <a:avLst/>
          </a:prstGeom>
          <a:ln w="0">
            <a:noFill/>
          </a:ln>
        </p:spPr>
      </p:pic>
      <p:cxnSp>
        <p:nvCxnSpPr>
          <p:cNvPr id="60" name="Прямая со стрелкой 14"/>
          <p:cNvCxnSpPr/>
          <p:nvPr/>
        </p:nvCxnSpPr>
        <p:spPr>
          <a:xfrm flipH="1">
            <a:off x="2771280" y="2211120"/>
            <a:ext cx="2880720" cy="1873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23"/>
          <p:cNvCxnSpPr/>
          <p:nvPr/>
        </p:nvCxnSpPr>
        <p:spPr>
          <a:xfrm flipH="1">
            <a:off x="3779640" y="4227120"/>
            <a:ext cx="2808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8000" y="87480"/>
          <a:ext cx="8929800" cy="160020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190440">
                <a:tc gridSpan="2"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3 в проекте решения о внесении изменений в ПЗ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азиева Ксения Валер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земельного участка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: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026 кв.м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ое зонирование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о-деловая, специализированная зона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СП-ОД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КС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эт. хозяйственный корпус – 2 шт.,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эт. хозяйственный корпус, 2-эт. магаз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И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азмещения промышленн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менить границы территориальных зон обслуживания промышленности, торговли, складирования и мелкого производства (Ц-6) и индивидуальной усадебной жилой застройки (Ж-5), включив  в границы территориальной зоны обслуживания промышленности, торговли, складирования и мелкого производства (Ц-6) земельный участок с кадастровым номером 59:01:4413794:43 по ул. Архитектора Свиязева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ндустриальном районе города Пер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6 от 11.06.2020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Рисунок 10" descr="свиязева до.jpeg"/>
          <p:cNvPicPr/>
          <p:nvPr/>
        </p:nvPicPr>
        <p:blipFill>
          <a:blip r:embed="rId1"/>
          <a:stretch/>
        </p:blipFill>
        <p:spPr>
          <a:xfrm>
            <a:off x="611280" y="170820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свиязева после.jpeg"/>
          <p:cNvPicPr/>
          <p:nvPr/>
        </p:nvPicPr>
        <p:blipFill>
          <a:blip r:embed="rId2"/>
          <a:stretch/>
        </p:blipFill>
        <p:spPr>
          <a:xfrm>
            <a:off x="4932360" y="1635120"/>
            <a:ext cx="340344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право 12"/>
          <p:cNvSpPr/>
          <p:nvPr/>
        </p:nvSpPr>
        <p:spPr>
          <a:xfrm>
            <a:off x="3995640" y="3076560"/>
            <a:ext cx="79236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8000" y="87480"/>
          <a:ext cx="8929800" cy="135540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190440">
                <a:tc gridSpan="2"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4 в проекте решения о внесении изменений в ПЗ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49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митет по физической культуре и спорту администрации города Пер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земельного участка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Пермь, Мотовилихинский район, ул. Лебедева, 46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: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8 кв.м.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ое зонирование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городского центра (СТН-Б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КС: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эт. ремонтируемое здание.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И:  –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менить границы подзон Ж-2 (В 6 эт), Ж-2 (П 3,12) территориальной зоны среднеэтажной жилой застройки (Ж-2), зоны спортивных и спортивно-зрелищных сооружений (ЦС-3), границы территории общего пользования - скверы, бульвары (ТОП-1), включив в границы территориальной зоны спортивных и спортивно-зрелищных сооружений (ЦС-3) территорию, включающую земельный участок с кадастровым номером 59:01:4311737:22 по ул. Лебедева, 46а в Мотовилихинском районе города Пер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7 от 02.07.2020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Рисунок 12" descr="лебедева 46а до.jpeg"/>
          <p:cNvPicPr/>
          <p:nvPr/>
        </p:nvPicPr>
        <p:blipFill>
          <a:blip r:embed="rId1"/>
          <a:stretch/>
        </p:blipFill>
        <p:spPr>
          <a:xfrm>
            <a:off x="539640" y="141912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лебедева 46а после.jpeg"/>
          <p:cNvPicPr/>
          <p:nvPr/>
        </p:nvPicPr>
        <p:blipFill>
          <a:blip r:embed="rId2"/>
          <a:stretch/>
        </p:blipFill>
        <p:spPr>
          <a:xfrm>
            <a:off x="5219640" y="1419120"/>
            <a:ext cx="3598920" cy="360072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право 14"/>
          <p:cNvSpPr/>
          <p:nvPr/>
        </p:nvSpPr>
        <p:spPr>
          <a:xfrm>
            <a:off x="4284720" y="2932200"/>
            <a:ext cx="792000" cy="2872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08000" y="87480"/>
          <a:ext cx="8929800" cy="135540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190440">
                <a:tc gridSpan="2"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2.2 в проекте решения о внесении изменений в ПЗ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49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дминистрация Ленинского района города Пер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земельного участка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Пермь, Ленинский район, ул. Борцов Револю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: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54,8 кв.м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ое зонирование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малоэтажной застройки (СТН-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КС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И:  –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ить из зоны ограничений по условиям сохранения и планируемого размещения образовательных учреждений земельный участок земельный участок с кадастровым номером 59:01:2010341:15 по улице Борцов Революции в Ленинском районе города Пер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7 от 02.07.2020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Рисунок 3" descr="борцов революции.jpeg"/>
          <p:cNvPicPr/>
          <p:nvPr/>
        </p:nvPicPr>
        <p:blipFill>
          <a:blip r:embed="rId1"/>
          <a:srcRect l="32407" t="31925" r="39118" b="12418"/>
          <a:stretch/>
        </p:blipFill>
        <p:spPr>
          <a:xfrm>
            <a:off x="826920" y="1492200"/>
            <a:ext cx="1873440" cy="2951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>
            <a:off x="755640" y="4443480"/>
            <a:ext cx="2016000" cy="36036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емельный участок с кадастровым номером 59:01:2010341: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"/>
          <p:cNvPicPr/>
          <p:nvPr/>
        </p:nvPicPr>
        <p:blipFill>
          <a:blip r:embed="rId2"/>
          <a:srcRect l="57561" t="50138" r="22350" b="14100"/>
          <a:stretch/>
        </p:blipFill>
        <p:spPr>
          <a:xfrm>
            <a:off x="3203640" y="1492200"/>
            <a:ext cx="2592360" cy="244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3"/>
          <a:srcRect l="35409" t="24801" r="26404" b="15335"/>
          <a:stretch/>
        </p:blipFill>
        <p:spPr>
          <a:xfrm>
            <a:off x="6012000" y="1492200"/>
            <a:ext cx="2663640" cy="244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4284720" y="3867120"/>
            <a:ext cx="3240000" cy="289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емельный участок с кадастровым номером 59:01:2010349: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08000" y="87480"/>
          <a:ext cx="8929800" cy="91584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190440">
                <a:tc gridSpan="2"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3 в проекте решения о внесении изменений в ПЗ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ОО «Газовые системы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тье 52.1 в градостроительном регламенте территориальной зоны (Ц-4) условно разрешенные виды использования дополнить абзацем следующего содержания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правка транспортных средств (4.9.1.1)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7 от 02.07.2020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Прямоугольник 8"/>
          <p:cNvSpPr/>
          <p:nvPr/>
        </p:nvSpPr>
        <p:spPr>
          <a:xfrm>
            <a:off x="324000" y="1058760"/>
            <a:ext cx="85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-4. Зона центра обслуживания рекреационных территор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она центра обслуживания рекреационных территорий Ц-4 выделена для обеспечения правовых условий формирования и развития общественных центров на городских рекреационных территориях с широким спектром обслуживающих фун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332640" y="2211480"/>
            <a:ext cx="3498480" cy="246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виды разрешенного использ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 (5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алы для маломерных судов (5.4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иничное обслуживание (4.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аторная деятельность (9.2.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ическое обслуживание (5.2.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ое развитие (3.6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газины (4.4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питание (4.6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услуг связи (3.2.3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ое обслуживание (3.3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культурно-досуговой деятельности (3.6.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и культуры и отдыха (3.6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3995640" y="2211480"/>
            <a:ext cx="4179960" cy="210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но разрешенные виды разрешенного использ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(4.3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игиозное использование (3.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альное обслуживание (3.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нутреннего правопорядка (8.3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территории (12.0.2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енны сотовой, радиорелейной и спутниковой связи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равка транспортных средств (4.9.1.1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9:12:28Z</dcterms:created>
  <dc:creator>Vasileva</dc:creator>
  <dc:description/>
  <dc:language>en-US</dc:language>
  <cp:lastModifiedBy>mahneva</cp:lastModifiedBy>
  <dcterms:modified xsi:type="dcterms:W3CDTF">2020-09-09T04:22:56Z</dcterms:modified>
  <cp:revision>1706</cp:revision>
  <dc:subject/>
  <dc:title>Слайд 1</dc:title>
</cp:coreProperties>
</file>