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6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25EA-D225-4446-9D2C-ECF2193072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E7CD-2F71-4120-82B6-CCB90BE8A1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D436-4F4B-44C1-B9D9-3067461B12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997C-EC13-4FDC-87F8-8ABC6740ED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B8A3-BB92-47C4-8BDB-A618176F40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86F4-9722-44CB-BEE9-2E9C8D0AA5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C3DE-DBB8-48E2-A1B7-CC11A313CE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588D-0A78-46B8-834D-5E57A8FA10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2419-1ABD-448F-99BE-D822CD3019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9358-8A3C-4A3E-87F7-514FE7CB3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B8FA-4413-4B28-B66C-9805262B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55F1-30C8-4BE1-B9F9-E22895772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6EC4-E5CA-456E-8148-BF975224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1571-EF3E-4510-8654-94DA927D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3C11-80E0-4948-9295-6423D94D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449D-AA09-45F5-994B-88636B02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B8E4-DBC7-44A0-BD96-0AF68EBD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8C83-474D-44E7-9A76-B06E5E7B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36BF-24BF-4813-AF7E-534C3C4B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48E3-3EDD-4B35-9A80-9F8F0BE9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3879-9EE7-4AB0-B523-694A2BAA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B4B7-3A20-4B8C-9329-570EF1E909D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"/>
          <p:cNvPicPr/>
          <p:nvPr/>
        </p:nvPicPr>
        <p:blipFill>
          <a:blip r:embed="rId1"/>
          <a:stretch/>
        </p:blipFill>
        <p:spPr>
          <a:xfrm rot="21149400">
            <a:off x="2927160" y="3398760"/>
            <a:ext cx="3654360" cy="2633760"/>
          </a:xfrm>
          <a:prstGeom prst="rect">
            <a:avLst/>
          </a:prstGeom>
          <a:ln w="9360">
            <a:solidFill>
              <a:srgbClr val="95b3d7"/>
            </a:solidFill>
            <a:miter/>
          </a:ln>
        </p:spPr>
      </p:pic>
      <p:pic>
        <p:nvPicPr>
          <p:cNvPr id="49" name="Picture 15" descr=""/>
          <p:cNvPicPr/>
          <p:nvPr/>
        </p:nvPicPr>
        <p:blipFill>
          <a:blip r:embed="rId2"/>
          <a:stretch/>
        </p:blipFill>
        <p:spPr>
          <a:xfrm rot="21107400">
            <a:off x="3839760" y="3855960"/>
            <a:ext cx="3975120" cy="2281320"/>
          </a:xfrm>
          <a:prstGeom prst="rect">
            <a:avLst/>
          </a:prstGeom>
          <a:ln w="9360">
            <a:solidFill>
              <a:srgbClr val="95b3d7"/>
            </a:solidFill>
            <a:miter/>
          </a:ln>
        </p:spPr>
      </p:pic>
      <p:pic>
        <p:nvPicPr>
          <p:cNvPr id="50" name="Picture 9" descr=""/>
          <p:cNvPicPr/>
          <p:nvPr/>
        </p:nvPicPr>
        <p:blipFill>
          <a:blip r:embed="rId3"/>
          <a:stretch/>
        </p:blipFill>
        <p:spPr>
          <a:xfrm rot="741000">
            <a:off x="6162840" y="3370320"/>
            <a:ext cx="2185920" cy="3084480"/>
          </a:xfrm>
          <a:prstGeom prst="rect">
            <a:avLst/>
          </a:prstGeom>
          <a:ln w="9360">
            <a:solidFill>
              <a:srgbClr val="95b3d7"/>
            </a:solidFill>
            <a:miter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3120" y="1484280"/>
            <a:ext cx="853776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32523"/>
                </a:solidFill>
                <a:latin typeface="Calibri"/>
              </a:rPr>
              <a:t>ПРОЕКТ ВНЕСЕНИЯ ИЗМЕНЕНИЙ </a:t>
            </a:r>
            <a:br>
              <a:rPr sz="2900"/>
            </a:br>
            <a:r>
              <a:rPr b="1" lang="ru-RU" sz="2900" spc="-1" strike="noStrike">
                <a:solidFill>
                  <a:srgbClr val="632523"/>
                </a:solidFill>
                <a:latin typeface="Calibri"/>
              </a:rPr>
              <a:t>В ПРАВИЛА ЗЕМЛЕПОЛЬЗОВАНИЯ И ЗАСТРОЙКИ ГОРОДА ПЕРМ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8" descr=""/>
          <p:cNvPicPr/>
          <p:nvPr/>
        </p:nvPicPr>
        <p:blipFill>
          <a:blip r:embed="rId4"/>
          <a:stretch/>
        </p:blipFill>
        <p:spPr>
          <a:xfrm>
            <a:off x="457200" y="239760"/>
            <a:ext cx="2521080" cy="10033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12"/>
          <p:cNvSpPr/>
          <p:nvPr/>
        </p:nvSpPr>
        <p:spPr>
          <a:xfrm>
            <a:off x="4417920" y="291960"/>
            <a:ext cx="45720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миссия по землепользованию и застройке города Перм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3"/>
          <p:cNvSpPr/>
          <p:nvPr/>
        </p:nvSpPr>
        <p:spPr>
          <a:xfrm>
            <a:off x="4367160" y="703440"/>
            <a:ext cx="45720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епартамент градостроительств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 архитектуры администрации города Перм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5"/>
          <a:stretch/>
        </p:blipFill>
        <p:spPr>
          <a:xfrm rot="741000">
            <a:off x="6059520" y="3421080"/>
            <a:ext cx="2185920" cy="3085920"/>
          </a:xfrm>
          <a:prstGeom prst="rect">
            <a:avLst/>
          </a:prstGeom>
          <a:ln w="9360">
            <a:solidFill>
              <a:srgbClr val="95b3d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5" descr="промышленная 22 _ сущ тз.jpeg"/>
          <p:cNvPicPr/>
          <p:nvPr/>
        </p:nvPicPr>
        <p:blipFill>
          <a:blip r:embed="rId1"/>
          <a:srcRect l="17963" t="22520" r="2815" b="2800"/>
          <a:stretch/>
        </p:blipFill>
        <p:spPr>
          <a:xfrm>
            <a:off x="324000" y="2205000"/>
            <a:ext cx="4076640" cy="38163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промышленная 22 _ нов тз.jpeg"/>
          <p:cNvPicPr/>
          <p:nvPr/>
        </p:nvPicPr>
        <p:blipFill>
          <a:blip r:embed="rId2"/>
          <a:srcRect l="17877" t="22673" r="3343" b="3065"/>
          <a:stretch/>
        </p:blipFill>
        <p:spPr>
          <a:xfrm>
            <a:off x="4859280" y="2205000"/>
            <a:ext cx="4076640" cy="381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71280" y="6524640"/>
          <a:ext cx="9036360" cy="244440"/>
        </p:xfrm>
        <a:graphic>
          <a:graphicData uri="http://schemas.openxmlformats.org/drawingml/2006/table">
            <a:tbl>
              <a:tblPr/>
              <a:tblGrid>
                <a:gridCol w="4572000"/>
                <a:gridCol w="446436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а Р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а Ж-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Прямая соединительная линия 9"/>
          <p:cNvSpPr/>
          <p:nvPr/>
        </p:nvSpPr>
        <p:spPr>
          <a:xfrm flipV="1">
            <a:off x="4643280" y="2133360"/>
            <a:ext cx="0" cy="439092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 вправо 10"/>
          <p:cNvSpPr/>
          <p:nvPr/>
        </p:nvSpPr>
        <p:spPr>
          <a:xfrm>
            <a:off x="4211640" y="4105440"/>
            <a:ext cx="792000" cy="36036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e46c0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8000" y="14400"/>
          <a:ext cx="8929800" cy="1858680"/>
        </p:xfrm>
        <a:graphic>
          <a:graphicData uri="http://schemas.openxmlformats.org/drawingml/2006/table">
            <a:tbl>
              <a:tblPr/>
              <a:tblGrid>
                <a:gridCol w="5327640"/>
                <a:gridCol w="360216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ункт 1.1.1 в проекте решения о внесении изменений в ПЗ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оры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овикова Н.Г.; Верхоланцева Н.В.; Биттер М.К., заявление от 19.09.201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9-22-01-28-60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ение о внесении изменений: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им об изменении границ территориальных зон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реационно-ландшафтных территорий (Р-2) и индивидуальной жилой застройки городского типа (Ж-4), включив в границы территориальной зоны индивидуальной жилой застройки городского типа (Ж-4) территорию, включающую земельные участки с кадастровыми номерами: 59:01:4811080:6 по ул. Апрельской,48, 59:01:4811080:5 по ул. Апрельской, 50, 59:01:4811080:7 по ул. Апрельской, 52 в Свердловском районе города Перм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(площадь </a:t>
                      </a:r>
                      <a:r>
                        <a:rPr b="0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0,49 га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расположена в границах функциональной зоны малоэтажной застройки (СТН-И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Комиссии по землепользованию и застройке города Перми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ответствии с протоколом заседания комиссии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№ 23 от 14.11.2019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ь предложение в части установления территориальной зоны индивидуальной жилой застройки городского типа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Ж-4) в отношении территории, включающей земельные участки с кадастровыми номерами: 59:01:4811080:6, 59:01:4811080:5, 59:01:4811080:7 по ул. Апрельской, 48, 50, 52 в Свердловском районе города Перм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08000" y="14400"/>
          <a:ext cx="8929800" cy="1858680"/>
        </p:xfrm>
        <a:graphic>
          <a:graphicData uri="http://schemas.openxmlformats.org/drawingml/2006/table">
            <a:tbl>
              <a:tblPr/>
              <a:tblGrid>
                <a:gridCol w="5327640"/>
                <a:gridCol w="360216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ункт 1.1.2 в проекте решения о внесении изменений в ПЗ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оры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ОО «Управляющая компания Парус», заявление от 29.10.201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9-22-01-28-69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ение о внесении изменений: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им об изменении границ подзон Ж-2 (П 1,07),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-2 (В 6 эт), Ц-2 (П 1,07) в границах территориальных зон среднеэтажной жилой застройки (Ж-2) и обслуживания и деловой активности местного значения (Ц-2), включив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раницы подзоны Ц-2 (П 1,07) территориальной зоны обслуживания и деловой активности местного значения (Ц-2) территорию площадью </a:t>
                      </a:r>
                      <a:r>
                        <a:rPr b="0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9845,38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в.м. по улице Калинина, 30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ировском районе города Перм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 расположена в границах функциональной зоны удаленных городских центров (СТН-Е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Комиссии по землепользованию и застройке города Перми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ответствии с протоколом заседания комиссии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№ 25 от 13.12.2019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ь предложение, включить в границы подзоны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-2 (П 1,07) в границах территориальной зоны Ц-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Прямая соединительная линия 8"/>
          <p:cNvSpPr/>
          <p:nvPr/>
        </p:nvSpPr>
        <p:spPr>
          <a:xfrm flipV="1">
            <a:off x="4716360" y="2204640"/>
            <a:ext cx="0" cy="439092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1280" y="6192720"/>
          <a:ext cx="8964720" cy="549360"/>
        </p:xfrm>
        <a:graphic>
          <a:graphicData uri="http://schemas.openxmlformats.org/drawingml/2006/table">
            <a:tbl>
              <a:tblPr/>
              <a:tblGrid>
                <a:gridCol w="4643640"/>
                <a:gridCol w="432108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а Ж-2; Ц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зона Ж-2 (П 1,07), Ц-2 (П 1,07)  с коэффициентом плотности застройки 1,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зона Ж-2 (В 6 эт) с предельной высотой зданий, строений не более 6 этаж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а Ц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зона Ц-2 (П 1,7)  с коэффициентом плотности застройки 1,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" name="Рисунок 9" descr="Калинина 30 _ ООО Управляющая компания  Парус3.jpg"/>
          <p:cNvPicPr/>
          <p:nvPr/>
        </p:nvPicPr>
        <p:blipFill>
          <a:blip r:embed="rId1"/>
          <a:srcRect l="0" t="1428" r="0" b="18571"/>
          <a:stretch/>
        </p:blipFill>
        <p:spPr>
          <a:xfrm>
            <a:off x="5433840" y="2073240"/>
            <a:ext cx="3602160" cy="33814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1" descr="Калинина 30 _ ООО Управляющая компания  Парус.jpg"/>
          <p:cNvPicPr/>
          <p:nvPr/>
        </p:nvPicPr>
        <p:blipFill>
          <a:blip r:embed="rId2"/>
          <a:srcRect l="0" t="34290" r="0" b="0"/>
          <a:stretch/>
        </p:blipFill>
        <p:spPr>
          <a:xfrm>
            <a:off x="1042920" y="2070000"/>
            <a:ext cx="3602160" cy="34513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1" descr="Сибирская_после2.jpeg"/>
          <p:cNvPicPr/>
          <p:nvPr/>
        </p:nvPicPr>
        <p:blipFill>
          <a:blip r:embed="rId3"/>
          <a:srcRect l="32935" t="35470" r="24970" b="44457"/>
          <a:stretch/>
        </p:blipFill>
        <p:spPr>
          <a:xfrm>
            <a:off x="108000" y="4653000"/>
            <a:ext cx="1892160" cy="1316160"/>
          </a:xfrm>
          <a:prstGeom prst="rect">
            <a:avLst/>
          </a:prstGeom>
          <a:ln w="28440">
            <a:solidFill>
              <a:srgbClr val="0070c0"/>
            </a:solidFill>
            <a:prstDash val="lg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cxnSp>
        <p:nvCxnSpPr>
          <p:cNvPr id="68" name="Прямая со стрелкой 13"/>
          <p:cNvCxnSpPr>
            <a:endCxn id="69" idx="2"/>
          </p:cNvCxnSpPr>
          <p:nvPr/>
        </p:nvCxnSpPr>
        <p:spPr>
          <a:xfrm flipV="1">
            <a:off x="1999800" y="4149720"/>
            <a:ext cx="880200" cy="1162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Прямоугольник 14"/>
          <p:cNvSpPr/>
          <p:nvPr/>
        </p:nvSpPr>
        <p:spPr>
          <a:xfrm>
            <a:off x="2484360" y="3573360"/>
            <a:ext cx="792360" cy="576360"/>
          </a:xfrm>
          <a:prstGeom prst="rect">
            <a:avLst/>
          </a:prstGeom>
          <a:noFill/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11" descr="Сибирская_после2.jpeg"/>
          <p:cNvPicPr/>
          <p:nvPr/>
        </p:nvPicPr>
        <p:blipFill>
          <a:blip r:embed="rId4"/>
          <a:srcRect l="40400" t="36045" r="38582" b="51415"/>
          <a:stretch/>
        </p:blipFill>
        <p:spPr>
          <a:xfrm>
            <a:off x="4808520" y="4653000"/>
            <a:ext cx="1851120" cy="1295280"/>
          </a:xfrm>
          <a:prstGeom prst="rect">
            <a:avLst/>
          </a:prstGeom>
          <a:ln w="28440">
            <a:solidFill>
              <a:srgbClr val="0070c0"/>
            </a:solidFill>
            <a:prstDash val="lg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cxnSp>
        <p:nvCxnSpPr>
          <p:cNvPr id="71" name="Прямая со стрелкой 25"/>
          <p:cNvCxnSpPr>
            <a:endCxn id="72" idx="2"/>
          </p:cNvCxnSpPr>
          <p:nvPr/>
        </p:nvCxnSpPr>
        <p:spPr>
          <a:xfrm flipV="1">
            <a:off x="6659640" y="4076280"/>
            <a:ext cx="613440" cy="1224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Стрелка вправо 6"/>
          <p:cNvSpPr/>
          <p:nvPr/>
        </p:nvSpPr>
        <p:spPr>
          <a:xfrm>
            <a:off x="4284720" y="3500280"/>
            <a:ext cx="1224000" cy="36036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e46c0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65"/>
          <p:cNvSpPr/>
          <p:nvPr/>
        </p:nvSpPr>
        <p:spPr>
          <a:xfrm>
            <a:off x="6875640" y="3573360"/>
            <a:ext cx="792000" cy="503280"/>
          </a:xfrm>
          <a:prstGeom prst="rect">
            <a:avLst/>
          </a:prstGeom>
          <a:noFill/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3" descr="Луначарского 51 пзз сущ.jpg"/>
          <p:cNvPicPr/>
          <p:nvPr/>
        </p:nvPicPr>
        <p:blipFill>
          <a:blip r:embed="rId1"/>
          <a:srcRect l="0" t="1676" r="0" b="4393"/>
          <a:stretch/>
        </p:blipFill>
        <p:spPr>
          <a:xfrm>
            <a:off x="324000" y="1989000"/>
            <a:ext cx="4100400" cy="43214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5" descr="Луначарского 51 пзз н.jpg"/>
          <p:cNvPicPr/>
          <p:nvPr/>
        </p:nvPicPr>
        <p:blipFill>
          <a:blip r:embed="rId2"/>
          <a:srcRect l="0" t="1676" r="0" b="4393"/>
          <a:stretch/>
        </p:blipFill>
        <p:spPr>
          <a:xfrm>
            <a:off x="4932360" y="1989000"/>
            <a:ext cx="4100400" cy="43214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9" descr="Сибирская_до2.jpeg"/>
          <p:cNvPicPr/>
          <p:nvPr/>
        </p:nvPicPr>
        <p:blipFill>
          <a:blip r:embed="rId3"/>
          <a:srcRect l="22867" t="39602" r="35607" b="38113"/>
          <a:stretch/>
        </p:blipFill>
        <p:spPr>
          <a:xfrm>
            <a:off x="4643280" y="1957320"/>
            <a:ext cx="2444760" cy="1471680"/>
          </a:xfrm>
          <a:prstGeom prst="rect">
            <a:avLst/>
          </a:prstGeom>
          <a:ln w="28440">
            <a:solidFill>
              <a:srgbClr val="0070c0"/>
            </a:solidFill>
            <a:prstDash val="lg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77" name="Рисунок 11" descr="Сибирская_после2.jpeg"/>
          <p:cNvPicPr/>
          <p:nvPr/>
        </p:nvPicPr>
        <p:blipFill>
          <a:blip r:embed="rId4"/>
          <a:srcRect l="23424" t="39602" r="36208" b="38113"/>
          <a:stretch/>
        </p:blipFill>
        <p:spPr>
          <a:xfrm>
            <a:off x="108000" y="1957320"/>
            <a:ext cx="2376360" cy="1471680"/>
          </a:xfrm>
          <a:prstGeom prst="rect">
            <a:avLst/>
          </a:prstGeom>
          <a:ln w="28440">
            <a:solidFill>
              <a:srgbClr val="0070c0"/>
            </a:solidFill>
            <a:prstDash val="lg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aphicFrame>
        <p:nvGraphicFramePr>
          <p:cNvPr id="78" name=""/>
          <p:cNvGraphicFramePr/>
          <p:nvPr/>
        </p:nvGraphicFramePr>
        <p:xfrm>
          <a:off x="0" y="6237360"/>
          <a:ext cx="9036000" cy="549360"/>
        </p:xfrm>
        <a:graphic>
          <a:graphicData uri="http://schemas.openxmlformats.org/drawingml/2006/table">
            <a:tbl>
              <a:tblPr/>
              <a:tblGrid>
                <a:gridCol w="4572000"/>
                <a:gridCol w="44640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а Ц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зона Ц-2 (П 3,73)  с коэффициентом плотности застройки 3,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зона Ц-2 (В 6 эт) с предельной высотой зданий, строений не более 6 этаж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а Ц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зона Ц-2 (П 3,73)  с коэффициентом плотности застройки 3,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зона Ц-2 (В 0) с предельной высотой зданий, строений не более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Прямая соединительная линия 35"/>
          <p:cNvSpPr/>
          <p:nvPr/>
        </p:nvSpPr>
        <p:spPr>
          <a:xfrm flipV="1">
            <a:off x="4572000" y="1773000"/>
            <a:ext cx="0" cy="460836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трелка вправо 16"/>
          <p:cNvSpPr/>
          <p:nvPr/>
        </p:nvSpPr>
        <p:spPr>
          <a:xfrm>
            <a:off x="4067280" y="4726080"/>
            <a:ext cx="1295280" cy="36036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e46c0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8000" y="14400"/>
          <a:ext cx="8929800" cy="1858680"/>
        </p:xfrm>
        <a:graphic>
          <a:graphicData uri="http://schemas.openxmlformats.org/drawingml/2006/table">
            <a:tbl>
              <a:tblPr/>
              <a:tblGrid>
                <a:gridCol w="5327640"/>
                <a:gridCol w="360216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ункт 1.1.3 в проекте решения о внесении изменений в ПЗ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оры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СН «Товарищество собственников  жилья «Луначарского, 51»  от 26.11. 2019  № 059-22-01-28-748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ение о внесении изменений: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им об изменении границы подзоны Ц-2 (В 6 эт) территориальной зоны обслуживания и деловой активности местного значения (Ц-2), включив в границы подзоны Ц-2 (В 0) территориальной зоны обслуживания и деловой активности местного значения (Ц-2) земельный участок с кадастровым номером 59:01:4410138:2, расположенный в границах территории по улицам Луначарского, 51, Луначарского, 51а, Пушкина, 27 в Ленинском районе города Перм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ый участок (площадь </a:t>
                      </a:r>
                      <a:r>
                        <a:rPr b="0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412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кв.м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) расположен в границах функциональной зоны ядра городского центра (СТН-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Комиссии по землепользованию и застройке города Перми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ответствии с протоколом заседания комиссии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№ 27 от 26.12.2019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ь предлож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42" descr="машинистов тз сущ.jpeg"/>
          <p:cNvPicPr/>
          <p:nvPr/>
        </p:nvPicPr>
        <p:blipFill>
          <a:blip r:embed="rId1"/>
          <a:srcRect l="7361" t="1398" r="6142" b="21689"/>
          <a:stretch/>
        </p:blipFill>
        <p:spPr>
          <a:xfrm>
            <a:off x="900000" y="2235240"/>
            <a:ext cx="3600720" cy="36417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3" descr="машинистов тз н.jpeg"/>
          <p:cNvPicPr/>
          <p:nvPr/>
        </p:nvPicPr>
        <p:blipFill>
          <a:blip r:embed="rId2"/>
          <a:srcRect l="7361" t="1398" r="6142" b="22337"/>
          <a:stretch/>
        </p:blipFill>
        <p:spPr>
          <a:xfrm>
            <a:off x="5435640" y="2205000"/>
            <a:ext cx="3600360" cy="361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108000" y="44280"/>
          <a:ext cx="8929800" cy="2163960"/>
        </p:xfrm>
        <a:graphic>
          <a:graphicData uri="http://schemas.openxmlformats.org/drawingml/2006/table">
            <a:tbl>
              <a:tblPr/>
              <a:tblGrid>
                <a:gridCol w="5327640"/>
                <a:gridCol w="360216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ункты 1.1.4, 1.1.4.1 в проекте решения о внесении изменений в ПЗ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ор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епартамент градостроительства и архитектуры администрации г. Перми от 05.12.2019 № 059-22-01-20/3-1 Служебная записка-9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ение о внесении изменений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 изменении границ подзон Ж-2 (П 0,3), Ж-2 (В 6 эт), Ц-2 (П 0,3), Ц-2 (В 6 эт)  территориальных зон среднеэтажной жилой застройки (Ж-2), обслуживания и деловой активности местного значения (Ц-2), включив в границы подзон Ц-2 (П 0,3), Ц-2 (В 6 эт) территориальной зоны Ц-2 территорию площадью </a:t>
                      </a:r>
                      <a:r>
                        <a:rPr b="0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0,21 га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ул.  Машинистов, 42 в Дзержинском р-не г. Перм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 изменении границ подзон Ж-2 (П 0,3), Ж-2 (В 6 эт), Ц-2 (П 0,3), Ц-2 (В 6 эт)  тер-ных зон Ж-2, Ц-2, включив в границы подзон Ж-2 (П 0,3), Ж-2 (В 6 эт) тер-ной зоны Ж-2 территорию площадью </a:t>
                      </a:r>
                      <a:r>
                        <a:rPr b="0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0,69 га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ул.  Машинистов, 20/3 в Дзержинском р-не г.Перм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и расположены в границах функциональной зоны жилой застройки (СТН-Д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Комиссии по землепользованию и застройке города Перми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ответствии с протоколом заседания комиссии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№ 1 от 23.01.2020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ь предложение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34920" y="5807160"/>
          <a:ext cx="9109080" cy="1006560"/>
        </p:xfrm>
        <a:graphic>
          <a:graphicData uri="http://schemas.openxmlformats.org/drawingml/2006/table">
            <a:tbl>
              <a:tblPr/>
              <a:tblGrid>
                <a:gridCol w="4537080"/>
                <a:gridCol w="457200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а Ж-2; Ц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зона Ж-2 (П 0,3); Ц-2 (П 0,3) с коэффициентом плотности застройки 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зона Ж-2 (В 6 эт); Ц-2 (В 6 эт) с предельной высотой зданий, строений не более 6 этаж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а Ц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зона Ц-2 (П 0,3) с коэффициентом плотности застройки 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зона Ц-2 (В 6 эт) с предельной высотой зданий, строений не более 6 этаж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а Ж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зона Ж-2 (П 0,3) с коэффициентом плотности застройки 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зона Ж-2 (В 6 эт) с предельной высотой зданий, строений не более 6 этаж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Прямая соединительная линия 11"/>
          <p:cNvSpPr/>
          <p:nvPr/>
        </p:nvSpPr>
        <p:spPr>
          <a:xfrm flipV="1">
            <a:off x="4572000" y="2204640"/>
            <a:ext cx="0" cy="374508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19" descr="машинистов тз н 2.jpeg"/>
          <p:cNvPicPr/>
          <p:nvPr/>
        </p:nvPicPr>
        <p:blipFill>
          <a:blip r:embed="rId3"/>
          <a:srcRect l="21354" t="25812" r="67307" b="58356"/>
          <a:stretch/>
        </p:blipFill>
        <p:spPr>
          <a:xfrm>
            <a:off x="4643280" y="2276640"/>
            <a:ext cx="725760" cy="1152360"/>
          </a:xfrm>
          <a:prstGeom prst="rect">
            <a:avLst/>
          </a:prstGeom>
          <a:ln w="28440">
            <a:solidFill>
              <a:srgbClr val="4f81bd"/>
            </a:solidFill>
            <a:prstDash val="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8" name="Рисунок 20" descr="машинистов тз сущ 2.jpeg"/>
          <p:cNvPicPr/>
          <p:nvPr/>
        </p:nvPicPr>
        <p:blipFill>
          <a:blip r:embed="rId4"/>
          <a:srcRect l="21354" t="25812" r="67307" b="58356"/>
          <a:stretch/>
        </p:blipFill>
        <p:spPr>
          <a:xfrm>
            <a:off x="108000" y="2276640"/>
            <a:ext cx="725400" cy="1152360"/>
          </a:xfrm>
          <a:prstGeom prst="rect">
            <a:avLst/>
          </a:prstGeom>
          <a:ln w="28440">
            <a:solidFill>
              <a:srgbClr val="4f81bd"/>
            </a:solidFill>
            <a:prstDash val="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9" name="Рисунок 21" descr="машинистов тз сущ  3.jpeg"/>
          <p:cNvPicPr/>
          <p:nvPr/>
        </p:nvPicPr>
        <p:blipFill>
          <a:blip r:embed="rId5"/>
          <a:srcRect l="24024" t="21580" r="60590" b="51084"/>
          <a:stretch/>
        </p:blipFill>
        <p:spPr>
          <a:xfrm>
            <a:off x="108000" y="4151160"/>
            <a:ext cx="747720" cy="1513080"/>
          </a:xfrm>
          <a:prstGeom prst="rect">
            <a:avLst/>
          </a:prstGeom>
          <a:ln w="28440">
            <a:solidFill>
              <a:srgbClr val="4f81bd"/>
            </a:solidFill>
            <a:prstDash val="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90" name="Рисунок 22" descr="машинистов тз н 3.jpeg"/>
          <p:cNvPicPr/>
          <p:nvPr/>
        </p:nvPicPr>
        <p:blipFill>
          <a:blip r:embed="rId6"/>
          <a:srcRect l="24024" t="21580" r="60590" b="51084"/>
          <a:stretch/>
        </p:blipFill>
        <p:spPr>
          <a:xfrm>
            <a:off x="4643280" y="4079880"/>
            <a:ext cx="749520" cy="1511280"/>
          </a:xfrm>
          <a:prstGeom prst="rect">
            <a:avLst/>
          </a:prstGeom>
          <a:ln w="28440">
            <a:solidFill>
              <a:srgbClr val="4f81bd"/>
            </a:solidFill>
            <a:prstDash val="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1" name="Стрелка вправо 9"/>
          <p:cNvSpPr/>
          <p:nvPr/>
        </p:nvSpPr>
        <p:spPr>
          <a:xfrm>
            <a:off x="4140360" y="3733920"/>
            <a:ext cx="792000" cy="36036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e46c0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Прямая со стрелкой 23"/>
          <p:cNvCxnSpPr>
            <a:endCxn id="93" idx="0"/>
          </p:cNvCxnSpPr>
          <p:nvPr/>
        </p:nvCxnSpPr>
        <p:spPr>
          <a:xfrm>
            <a:off x="5369040" y="2852280"/>
            <a:ext cx="248400" cy="3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3" name="Прямоугольник 24"/>
          <p:cNvSpPr/>
          <p:nvPr/>
        </p:nvSpPr>
        <p:spPr>
          <a:xfrm>
            <a:off x="5508720" y="3213000"/>
            <a:ext cx="215640" cy="287280"/>
          </a:xfrm>
          <a:prstGeom prst="rect">
            <a:avLst/>
          </a:prstGeom>
          <a:noFill/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Прямая со стрелкой 31"/>
          <p:cNvCxnSpPr>
            <a:endCxn id="95" idx="0"/>
          </p:cNvCxnSpPr>
          <p:nvPr/>
        </p:nvCxnSpPr>
        <p:spPr>
          <a:xfrm>
            <a:off x="833400" y="2852640"/>
            <a:ext cx="246960" cy="432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" name="Прямоугольник 32"/>
          <p:cNvSpPr/>
          <p:nvPr/>
        </p:nvSpPr>
        <p:spPr>
          <a:xfrm>
            <a:off x="971640" y="3284640"/>
            <a:ext cx="215640" cy="288720"/>
          </a:xfrm>
          <a:prstGeom prst="rect">
            <a:avLst/>
          </a:prstGeom>
          <a:noFill/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Прямая со стрелкой 34"/>
          <p:cNvCxnSpPr>
            <a:endCxn id="97" idx="1"/>
          </p:cNvCxnSpPr>
          <p:nvPr/>
        </p:nvCxnSpPr>
        <p:spPr>
          <a:xfrm>
            <a:off x="5392440" y="4835160"/>
            <a:ext cx="2493000" cy="106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7" name="Прямоугольник 35"/>
          <p:cNvSpPr/>
          <p:nvPr/>
        </p:nvSpPr>
        <p:spPr>
          <a:xfrm>
            <a:off x="7885080" y="4724280"/>
            <a:ext cx="216000" cy="433440"/>
          </a:xfrm>
          <a:prstGeom prst="rect">
            <a:avLst/>
          </a:prstGeom>
          <a:noFill/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Прямая со стрелкой 38"/>
          <p:cNvCxnSpPr>
            <a:endCxn id="99" idx="1"/>
          </p:cNvCxnSpPr>
          <p:nvPr/>
        </p:nvCxnSpPr>
        <p:spPr>
          <a:xfrm>
            <a:off x="855360" y="4908600"/>
            <a:ext cx="2493000" cy="23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" name="Прямоугольник 39"/>
          <p:cNvSpPr/>
          <p:nvPr/>
        </p:nvSpPr>
        <p:spPr>
          <a:xfrm>
            <a:off x="3348000" y="4724280"/>
            <a:ext cx="216000" cy="411120"/>
          </a:xfrm>
          <a:prstGeom prst="rect">
            <a:avLst/>
          </a:prstGeom>
          <a:noFill/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20" descr="Петропавловская ЦС-3 2.jpeg"/>
          <p:cNvPicPr/>
          <p:nvPr/>
        </p:nvPicPr>
        <p:blipFill>
          <a:blip r:embed="rId1"/>
          <a:srcRect l="0" t="2073" r="0" b="33197"/>
          <a:stretch/>
        </p:blipFill>
        <p:spPr>
          <a:xfrm>
            <a:off x="5076720" y="2043000"/>
            <a:ext cx="3727440" cy="35830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9" descr="C:\Users\onuchina-ai\Downloads\Восстания_ТОП-1 (1).jpeg"/>
          <p:cNvPicPr/>
          <p:nvPr/>
        </p:nvPicPr>
        <p:blipFill>
          <a:blip r:embed="rId2"/>
          <a:srcRect l="5451" t="7132" r="0" b="26944"/>
          <a:stretch/>
        </p:blipFill>
        <p:spPr>
          <a:xfrm>
            <a:off x="268200" y="2060640"/>
            <a:ext cx="4056120" cy="36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108000" y="115920"/>
          <a:ext cx="8929800" cy="1971720"/>
        </p:xfrm>
        <a:graphic>
          <a:graphicData uri="http://schemas.openxmlformats.org/drawingml/2006/table">
            <a:tbl>
              <a:tblPr/>
              <a:tblGrid>
                <a:gridCol w="5184720"/>
                <a:gridCol w="374508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ункт 1.1.6 в проекте решения о внесении изменений в ПЗ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ор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оровка В.Г. от 12.12.2019 № 059-22-01-28-78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ение о внесении изменений: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им об изменении границ подзон Ц-2 (П 3,12), Ц-2 (В 6 эт)  территориальных зон обслуживания и деловой активности местного значения (Ц-2), спортивных и спортивно-зрелищных сооружений (ЦС-3), включив в границы подзон Ц-2 (П 3,12), Ц-2 (В 6 эт) территориальной зоны обслуживания и деловой активности местного значения (Ц-2) территорию (площадью 1258,97 кв.м.), включающую земельный участок с кадастровым номером 59:01:4410062:1899 (</a:t>
                      </a:r>
                      <a:r>
                        <a:rPr b="0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лощадью 1168 кв.м.)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ул.  Петропавловской в Дзержинском районе города Пер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расположена в границах функциональной зоны городского центра (СТН-Б2 Улица Ленина (запад)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Комиссии по землепользованию и застройке города Перми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ответствии с протоколом заседания комиссии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№ 1 от 23.01.2020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ь предложение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" name="Рисунок 11" descr="Сибирская_после2.jpeg"/>
          <p:cNvPicPr/>
          <p:nvPr/>
        </p:nvPicPr>
        <p:blipFill>
          <a:blip r:embed="rId3"/>
          <a:srcRect l="39785" t="32783" r="13368" b="42933"/>
          <a:stretch/>
        </p:blipFill>
        <p:spPr>
          <a:xfrm>
            <a:off x="2987640" y="5011560"/>
            <a:ext cx="1368360" cy="1081440"/>
          </a:xfrm>
          <a:prstGeom prst="rect">
            <a:avLst/>
          </a:prstGeom>
          <a:ln w="28440">
            <a:solidFill>
              <a:srgbClr val="0070c0"/>
            </a:solidFill>
            <a:prstDash val="lg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04" name="Прямоугольник 12"/>
          <p:cNvSpPr/>
          <p:nvPr/>
        </p:nvSpPr>
        <p:spPr>
          <a:xfrm>
            <a:off x="2268360" y="3629160"/>
            <a:ext cx="719280" cy="574560"/>
          </a:xfrm>
          <a:prstGeom prst="rect">
            <a:avLst/>
          </a:prstGeom>
          <a:noFill/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Прямая со стрелкой 13"/>
          <p:cNvCxnSpPr>
            <a:endCxn id="104" idx="2"/>
          </p:cNvCxnSpPr>
          <p:nvPr/>
        </p:nvCxnSpPr>
        <p:spPr>
          <a:xfrm flipH="1" flipV="1">
            <a:off x="2626920" y="4203360"/>
            <a:ext cx="1045440" cy="80856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pic>
        <p:nvPicPr>
          <p:cNvPr id="106" name="Рисунок 11" descr="Сибирская_после2.jpeg"/>
          <p:cNvPicPr/>
          <p:nvPr/>
        </p:nvPicPr>
        <p:blipFill>
          <a:blip r:embed="rId4"/>
          <a:srcRect l="39785" t="32783" r="15828" b="42933"/>
          <a:stretch/>
        </p:blipFill>
        <p:spPr>
          <a:xfrm>
            <a:off x="7596360" y="5084640"/>
            <a:ext cx="1296720" cy="1079640"/>
          </a:xfrm>
          <a:prstGeom prst="rect">
            <a:avLst/>
          </a:prstGeom>
          <a:ln w="28440">
            <a:solidFill>
              <a:srgbClr val="0070c0"/>
            </a:solidFill>
            <a:prstDash val="lg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07" name="Прямая соединительная линия 17"/>
          <p:cNvSpPr/>
          <p:nvPr/>
        </p:nvSpPr>
        <p:spPr>
          <a:xfrm flipV="1">
            <a:off x="4572000" y="1915920"/>
            <a:ext cx="0" cy="429228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Прямая со стрелкой 21"/>
          <p:cNvCxnSpPr>
            <a:endCxn id="109" idx="2"/>
          </p:cNvCxnSpPr>
          <p:nvPr/>
        </p:nvCxnSpPr>
        <p:spPr>
          <a:xfrm flipH="1" flipV="1">
            <a:off x="7163640" y="4201560"/>
            <a:ext cx="1080360" cy="88308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10" name="Стрелка вправо 15"/>
          <p:cNvSpPr/>
          <p:nvPr/>
        </p:nvSpPr>
        <p:spPr>
          <a:xfrm>
            <a:off x="4187880" y="3760920"/>
            <a:ext cx="108108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46c0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61"/>
          <p:cNvSpPr/>
          <p:nvPr/>
        </p:nvSpPr>
        <p:spPr>
          <a:xfrm>
            <a:off x="6804000" y="3627360"/>
            <a:ext cx="720720" cy="574920"/>
          </a:xfrm>
          <a:prstGeom prst="rect">
            <a:avLst/>
          </a:prstGeom>
          <a:noFill/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4920" y="6192720"/>
          <a:ext cx="9109080" cy="549360"/>
        </p:xfrm>
        <a:graphic>
          <a:graphicData uri="http://schemas.openxmlformats.org/drawingml/2006/table">
            <a:tbl>
              <a:tblPr/>
              <a:tblGrid>
                <a:gridCol w="4537080"/>
                <a:gridCol w="45720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а Ц-2; ЦС-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зона Ц-2 (П 3,12) с коэффициентом плотности застройки 3,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зона Ц-2 (В 6 эт) с предельной высотой зданий, строений не более 6 этаж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а Ц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зона Ц-2 (П 3,12) с коэффициентом плотности застройки 3,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зона Ц-2 (В 6 эт) с предельной высотой зданий, строений не более 6 этаж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29" descr="УЭП _  Кол. сад № 22а уч. № 13 пр берег р. Резвянки Кислотные дачи3.jpg"/>
          <p:cNvPicPr/>
          <p:nvPr/>
        </p:nvPicPr>
        <p:blipFill>
          <a:blip r:embed="rId1"/>
          <a:srcRect l="0" t="10881" r="15928" b="0"/>
          <a:stretch/>
        </p:blipFill>
        <p:spPr>
          <a:xfrm>
            <a:off x="4716360" y="2060640"/>
            <a:ext cx="3456000" cy="4518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26" descr="УЭП _  Кол. сад № 22а уч. № 13 пр берег р. Резвянки Кислотные дачи3.jpg"/>
          <p:cNvPicPr/>
          <p:nvPr/>
        </p:nvPicPr>
        <p:blipFill>
          <a:blip r:embed="rId2"/>
          <a:srcRect l="0" t="11064" r="15757" b="0"/>
          <a:stretch/>
        </p:blipFill>
        <p:spPr>
          <a:xfrm>
            <a:off x="179280" y="1989000"/>
            <a:ext cx="3465720" cy="451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108000" y="115920"/>
          <a:ext cx="8929800" cy="1971720"/>
        </p:xfrm>
        <a:graphic>
          <a:graphicData uri="http://schemas.openxmlformats.org/drawingml/2006/table">
            <a:tbl>
              <a:tblPr/>
              <a:tblGrid>
                <a:gridCol w="5184720"/>
                <a:gridCol w="374508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ункт 1.1.7 в проекте решения о внесении изменений в ПЗ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ор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инистерства по управлению имуществом и градостроительной деятельности Пермского края от 20.12. 2019 № СЭД-Ивн31-02-2-15-8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ение о внесении изменений: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им об изменении границ территориальных зон высших, средних специальных учебных заведений и научных комплексов (ЦС-2) и учреждений здравоохранения (ЦС-1),  включив в границы территориальной зоны учреждений здравоохранения (ЦС-1) земельный участок с кадастровым номером 59:01:4410862:17 (</a:t>
                      </a:r>
                      <a:r>
                        <a:rPr b="0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лощадью 1040 кв.м.)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ул. Чайковского, 35 а в Индустриальном районе города Перм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ый участок расположен в границах функциональной зоны многофункциональной застройки срединной части города (СТН-В10 9-го мая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Комиссии по землепользованию и застройке города Перми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ответствии с протоколом заседания комиссии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№ 1 от 23.01.2020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ь предложение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Прямая соединительная линия 22"/>
          <p:cNvSpPr/>
          <p:nvPr/>
        </p:nvSpPr>
        <p:spPr>
          <a:xfrm flipV="1">
            <a:off x="4572000" y="2060280"/>
            <a:ext cx="0" cy="45162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55"/>
          <p:cNvSpPr/>
          <p:nvPr/>
        </p:nvSpPr>
        <p:spPr>
          <a:xfrm>
            <a:off x="1332000" y="4005360"/>
            <a:ext cx="792000" cy="576000"/>
          </a:xfrm>
          <a:prstGeom prst="rect">
            <a:avLst/>
          </a:prstGeom>
          <a:noFill/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Прямая со стрелкой 73"/>
          <p:cNvCxnSpPr>
            <a:endCxn id="118" idx="2"/>
          </p:cNvCxnSpPr>
          <p:nvPr/>
        </p:nvCxnSpPr>
        <p:spPr>
          <a:xfrm flipH="1" flipV="1">
            <a:off x="6263640" y="4652280"/>
            <a:ext cx="972360" cy="648360"/>
          </a:xfrm>
          <a:prstGeom prst="straightConnector1">
            <a:avLst/>
          </a:prstGeom>
          <a:ln w="28440">
            <a:solidFill>
              <a:srgbClr val="558ed5"/>
            </a:solidFill>
            <a:prstDash val="sysDash"/>
            <a:miter/>
            <a:tailEnd len="med" type="arrow" w="med"/>
          </a:ln>
        </p:spPr>
      </p:cxnSp>
      <p:graphicFrame>
        <p:nvGraphicFramePr>
          <p:cNvPr id="119" name=""/>
          <p:cNvGraphicFramePr/>
          <p:nvPr/>
        </p:nvGraphicFramePr>
        <p:xfrm>
          <a:off x="34920" y="6576840"/>
          <a:ext cx="9109080" cy="236880"/>
        </p:xfrm>
        <a:graphic>
          <a:graphicData uri="http://schemas.openxmlformats.org/drawingml/2006/table">
            <a:tbl>
              <a:tblPr/>
              <a:tblGrid>
                <a:gridCol w="4537080"/>
                <a:gridCol w="4572000"/>
              </a:tblGrid>
              <a:tr h="2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а ЦС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а ЦС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20" name="Прямая со стрелкой 127"/>
          <p:cNvCxnSpPr>
            <a:endCxn id="116" idx="2"/>
          </p:cNvCxnSpPr>
          <p:nvPr/>
        </p:nvCxnSpPr>
        <p:spPr>
          <a:xfrm flipH="1" flipV="1">
            <a:off x="1728000" y="4580640"/>
            <a:ext cx="972360" cy="577080"/>
          </a:xfrm>
          <a:prstGeom prst="straightConnector1">
            <a:avLst/>
          </a:prstGeom>
          <a:ln w="28440">
            <a:solidFill>
              <a:srgbClr val="558ed5"/>
            </a:solidFill>
            <a:prstDash val="sysDash"/>
            <a:miter/>
            <a:tailEnd len="med" type="arrow" w="med"/>
          </a:ln>
        </p:spPr>
      </p:cxnSp>
      <p:pic>
        <p:nvPicPr>
          <p:cNvPr id="121" name="Рисунок 27" descr="УЭП _  Кол. сад № 22а уч. № 13 пр берег р. Резвянки Кислотные дачи3.jpg"/>
          <p:cNvPicPr/>
          <p:nvPr/>
        </p:nvPicPr>
        <p:blipFill>
          <a:blip r:embed="rId3"/>
          <a:srcRect l="27111" t="50740" r="51415" b="37394"/>
          <a:stretch/>
        </p:blipFill>
        <p:spPr>
          <a:xfrm>
            <a:off x="2700360" y="4508640"/>
            <a:ext cx="1800360" cy="1296720"/>
          </a:xfrm>
          <a:prstGeom prst="rect">
            <a:avLst/>
          </a:prstGeom>
          <a:ln w="28440">
            <a:solidFill>
              <a:srgbClr val="4f81bd"/>
            </a:solidFill>
            <a:prstDash val="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22" name="Рисунок 31" descr="УЭП _  Кол. сад № 22а уч. № 13 пр берег р. Резвянки Кислотные дачи3.jpg"/>
          <p:cNvPicPr/>
          <p:nvPr/>
        </p:nvPicPr>
        <p:blipFill>
          <a:blip r:embed="rId4"/>
          <a:srcRect l="27122" t="50440" r="51393" b="37673"/>
          <a:stretch/>
        </p:blipFill>
        <p:spPr>
          <a:xfrm>
            <a:off x="7236000" y="4653000"/>
            <a:ext cx="1800000" cy="1297080"/>
          </a:xfrm>
          <a:prstGeom prst="rect">
            <a:avLst/>
          </a:prstGeom>
          <a:ln w="28440">
            <a:solidFill>
              <a:srgbClr val="0070c0"/>
            </a:solidFill>
            <a:prstDash val="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3" name="Стрелка вправо 23"/>
          <p:cNvSpPr/>
          <p:nvPr/>
        </p:nvSpPr>
        <p:spPr>
          <a:xfrm>
            <a:off x="4067280" y="2924280"/>
            <a:ext cx="936360" cy="36036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e46c0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4"/>
          <p:cNvSpPr/>
          <p:nvPr/>
        </p:nvSpPr>
        <p:spPr>
          <a:xfrm>
            <a:off x="5867280" y="4076640"/>
            <a:ext cx="793800" cy="576360"/>
          </a:xfrm>
          <a:prstGeom prst="rect">
            <a:avLst/>
          </a:prstGeom>
          <a:noFill/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6308640"/>
          <a:ext cx="9109080" cy="397080"/>
        </p:xfrm>
        <a:graphic>
          <a:graphicData uri="http://schemas.openxmlformats.org/drawingml/2006/table">
            <a:tbl>
              <a:tblPr/>
              <a:tblGrid>
                <a:gridCol w="4572000"/>
                <a:gridCol w="45370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а Ж-1; Ж-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зона Ж-1 (П 2,22) с коэффициентом плотности застройки 2,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а Ж-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108000" y="115920"/>
          <a:ext cx="8929800" cy="1859040"/>
        </p:xfrm>
        <a:graphic>
          <a:graphicData uri="http://schemas.openxmlformats.org/drawingml/2006/table">
            <a:tbl>
              <a:tblPr/>
              <a:tblGrid>
                <a:gridCol w="5184720"/>
                <a:gridCol w="374508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ункт 1.1.9 в проекте решения о внесении изменений в ПЗ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ор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ырянов Д.В.от 24.01.2020 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059-22-01-28-3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ение о внесении изменений: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им об изменении границы подзоны Ж-1 (П 2,22),  территориальных зон многоэтажной и среднеэтажной жилой застройки (Ж-1)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малоэтажной многоквартирной жилой застройки, индивидуального жилищного строительства и блокированной жилой застройки (Ж-3), включив в границы тер-й зоны Ж-3 территории  </a:t>
                      </a:r>
                      <a:r>
                        <a:rPr b="0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лощадью 1347 кв.м,  1734 кв.м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ограниченные  просп. Декабристов, ул. Шахтерской, просп. Декабристов, 39 в,  в Индустриальном р-не г. Пер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и расположены в границах функциональной зоны многофункциональной застройки срединной части города (СТН-В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Комиссии по землепользованию и застройке города Перми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ответствии с протоколом заседания комиссии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№ 2 от 05.02.2020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ь предложение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Прямая соединительная линия 22"/>
          <p:cNvSpPr/>
          <p:nvPr/>
        </p:nvSpPr>
        <p:spPr>
          <a:xfrm>
            <a:off x="4572000" y="2205000"/>
            <a:ext cx="0" cy="417672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29" descr="декабристов 39 тз сущ.jpeg"/>
          <p:cNvPicPr/>
          <p:nvPr/>
        </p:nvPicPr>
        <p:blipFill>
          <a:blip r:embed="rId1"/>
          <a:srcRect l="19787" t="14382" r="27900" b="29295"/>
          <a:stretch/>
        </p:blipFill>
        <p:spPr>
          <a:xfrm>
            <a:off x="76320" y="2243160"/>
            <a:ext cx="4424400" cy="367344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31" descr="декабристов 39 тз н.jpeg"/>
          <p:cNvPicPr/>
          <p:nvPr/>
        </p:nvPicPr>
        <p:blipFill>
          <a:blip r:embed="rId2"/>
          <a:srcRect l="19784" t="14286" r="27903" b="28877"/>
          <a:stretch/>
        </p:blipFill>
        <p:spPr>
          <a:xfrm>
            <a:off x="4643280" y="2243160"/>
            <a:ext cx="4424400" cy="3706920"/>
          </a:xfrm>
          <a:prstGeom prst="rect">
            <a:avLst/>
          </a:prstGeom>
          <a:ln w="0">
            <a:noFill/>
          </a:ln>
        </p:spPr>
      </p:pic>
      <p:sp>
        <p:nvSpPr>
          <p:cNvPr id="129" name="Стрелка вправо 23"/>
          <p:cNvSpPr/>
          <p:nvPr/>
        </p:nvSpPr>
        <p:spPr>
          <a:xfrm>
            <a:off x="4284720" y="3500280"/>
            <a:ext cx="647640" cy="4334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e46c0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27" descr="доватора зона ограничений  сущ.jpeg"/>
          <p:cNvPicPr/>
          <p:nvPr/>
        </p:nvPicPr>
        <p:blipFill>
          <a:blip r:embed="rId1"/>
          <a:srcRect l="46987" t="21858" r="0" b="6523"/>
          <a:stretch/>
        </p:blipFill>
        <p:spPr>
          <a:xfrm>
            <a:off x="822240" y="1773360"/>
            <a:ext cx="3678480" cy="4206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1" name="Рисунок 26" descr="доватора зона ограничений  нов.jpeg"/>
          <p:cNvPicPr/>
          <p:nvPr/>
        </p:nvPicPr>
        <p:blipFill>
          <a:blip r:embed="rId2"/>
          <a:srcRect l="46987" t="21858" r="0" b="8626"/>
          <a:stretch/>
        </p:blipFill>
        <p:spPr>
          <a:xfrm>
            <a:off x="4854600" y="1773360"/>
            <a:ext cx="3678120" cy="40845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graphicFrame>
        <p:nvGraphicFramePr>
          <p:cNvPr id="132" name=""/>
          <p:cNvGraphicFramePr/>
          <p:nvPr/>
        </p:nvGraphicFramePr>
        <p:xfrm>
          <a:off x="108000" y="115920"/>
          <a:ext cx="8929800" cy="1554120"/>
        </p:xfrm>
        <a:graphic>
          <a:graphicData uri="http://schemas.openxmlformats.org/drawingml/2006/table">
            <a:tbl>
              <a:tblPr/>
              <a:tblGrid>
                <a:gridCol w="5184720"/>
                <a:gridCol w="374508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ункт 1.2 в проекте решения о внесении изменений в ПЗ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ор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епартамент градостроительства и архитектуры администрации г. Перми от 04.02.2020 № 059-22-01-20/3-33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ение о внесении изменений: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им об установлении зоны ограничений по условиям сохранения и планируемого размещения образовательных учреждений в отношении земельного участка с кадастровым номером 59:01:3812904:3 (</a:t>
                      </a:r>
                      <a:r>
                        <a:rPr b="0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лощадь 8 104,9 кв. м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по улице Генерала Доватора, 32 в Орджоникидзевском районе города Пер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расположена в границах функциональной зоны жилой застройки (СТН-Д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Комиссии по землепользованию и застройке города Перми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ответствии с протоколом заседания комиссии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№ 2 от 05.02.2020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ь предложение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ить зону ограничений по условиям сохранения и планируемого размещения образовательных учреждений в отношении земельного участка по улице Генерала Доватора, 32 в Орджоникидзевском районе г. Перм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Прямая соединительная линия 22"/>
          <p:cNvSpPr/>
          <p:nvPr/>
        </p:nvSpPr>
        <p:spPr>
          <a:xfrm flipV="1">
            <a:off x="4572000" y="1699920"/>
            <a:ext cx="0" cy="48258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4920" y="6308640"/>
          <a:ext cx="9109080" cy="525600"/>
        </p:xfrm>
        <a:graphic>
          <a:graphicData uri="http://schemas.openxmlformats.org/drawingml/2006/table">
            <a:tbl>
              <a:tblPr/>
              <a:tblGrid>
                <a:gridCol w="4537080"/>
                <a:gridCol w="457200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а Ж-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а Ж-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а действия ограничений по условиям сохранения и планируемого размещения образовательных учрежд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5" name="Рисунок 29" descr="доватора зона ограничений ТЗ.jpeg"/>
          <p:cNvPicPr/>
          <p:nvPr/>
        </p:nvPicPr>
        <p:blipFill>
          <a:blip r:embed="rId3"/>
          <a:srcRect l="35778" t="45850" r="30590" b="21636"/>
          <a:stretch/>
        </p:blipFill>
        <p:spPr>
          <a:xfrm>
            <a:off x="71280" y="4508640"/>
            <a:ext cx="1979640" cy="1620720"/>
          </a:xfrm>
          <a:prstGeom prst="rect">
            <a:avLst/>
          </a:prstGeom>
          <a:ln w="28800">
            <a:solidFill>
              <a:srgbClr val="4f81bd"/>
            </a:solidFill>
            <a:prstDash val="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36" name="Стрелка вправо 23"/>
          <p:cNvSpPr/>
          <p:nvPr/>
        </p:nvSpPr>
        <p:spPr>
          <a:xfrm>
            <a:off x="4211640" y="4076640"/>
            <a:ext cx="100800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46c0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0T09:12:28Z</dcterms:created>
  <dc:creator>Vasileva</dc:creator>
  <dc:description/>
  <dc:language>en-US</dc:language>
  <cp:lastModifiedBy>kazachenko</cp:lastModifiedBy>
  <dcterms:modified xsi:type="dcterms:W3CDTF">2020-09-18T08:27:09Z</dcterms:modified>
  <cp:revision>1625</cp:revision>
  <dc:subject/>
  <dc:title>Слайд 1</dc:title>
</cp:coreProperties>
</file>