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B77-7F46-41EC-BD51-240C89EC96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D499-3ABD-436E-A92F-03B565775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508-83E0-49AC-A574-91B4F487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170-D7C4-4AB8-B14C-2BF1B90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C0F-2A61-4637-B1AE-1493E849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C81-61E7-4A0C-B263-7513AF12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147-3927-4C80-A55E-74113F8F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B79-E5C0-4FC6-BAD8-1BEA2215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62D-C1C7-4D42-B7E7-A8820807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09F3-F126-4CBD-8B09-193D502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99DA-2CEF-4652-B9C8-163A17EC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649-E673-4225-BA48-39275F2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28B0-D74F-4AC7-9DCF-CB9FDE3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4D7-6F84-4C9F-8BE9-1F6A3760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83DD-5753-4F8D-8D0D-D4314FE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5068-F825-4AE6-A25F-6DFF9C60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66F6-C246-43B2-9C72-1E195D19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5599-1322-4C76-AEDA-12D1455C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480E-EB40-452E-8B20-AEBF9227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9ED2-EAB5-45BA-A897-CD744D4C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B53D-C26E-427E-A070-95F52FF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AA32-A213-45BB-B815-4912473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E374-567A-40A5-BFA2-0D82BF7E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78AC-FA2D-49C0-8840-52047F15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330-D120-4930-BBCF-5A346497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B1B2-78FA-491D-A4CC-A447B69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4A27-7C41-4FA7-B2F7-E52B89D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7F0E-813C-495B-9E7F-D749644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BEFB-8E04-4CF5-9279-F2D667F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8E15-7DB1-4E80-93C1-4B992AF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3DEF-5DC8-41D3-A5BA-CECD98D2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5599-CD2C-4432-AE4E-EFF7A699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B15D-D334-4AAC-9B67-5CE63CE2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BB2C-0AC5-4467-B169-65C482E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3C23-0D20-4EFF-995A-238F1560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89C-0743-4398-AD16-30E03795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C7F1-B001-42D9-9554-CB1DB7C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D502-EECF-4DF8-8A83-4D19F86E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352A-4F2E-4BD4-B2BF-2ABE9A32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ABFA-E9AD-4C34-8E92-6FB42B6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C3BA-314F-441C-A669-F76C584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CFAC-2D33-4590-A89C-2AB9F26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D6F2-11F3-4BCA-BFF8-4C4F627B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1B03-73AE-4842-879A-800A885D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FB20A-6035-4C02-B48E-CF76774B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D5B61-A8A0-440B-851A-9C4787E9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407-9D31-4F0E-BDA5-E2088EE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8879-F351-47CD-8C65-6EC9EF65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71292-EB84-4182-8841-D19932EF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94BC-1777-41B0-9CB5-F1384A53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714A-E963-4B27-BDDB-43508CBC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C3BA-7602-4FBD-91AE-98A694BC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46CC-3D26-478F-914A-91FF420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964B-0831-4F60-B60A-4668DFD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A955-B639-40EF-AA05-B0E846A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B731-D886-427F-BB5F-BD524050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BB28-1915-4759-BD85-2A08A1B9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217-16A2-4067-BB01-63BFF26B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1906-23A7-45B7-87A1-EE1B8F98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991D-D2AB-41DC-A493-043F31FC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8BDB-137A-4763-8789-3B5893A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DAAB-A92F-462C-85C9-CC81DEC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3A6B-0BAD-4292-847E-A5A7476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BB95-7BA4-425D-9C1E-9BD70305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5EDE6-6D8C-4544-8C86-2EA45D41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08BE6-3E6A-493A-99FB-D6EA97A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1A45-1A44-4C75-BD3E-7782E3BC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017B-8B92-40C0-AFA4-1072407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DC0-941B-40AB-9FD8-ABF1F3B3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F549-5435-45AE-A78F-3C86CE3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9370-9F35-42D3-9BE9-3FD4C8CF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5E98-7152-4341-9445-95AEA32C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B4830-9CA3-4E4D-93FE-2F258E0E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FF730-0273-4B37-933C-3C88C9A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0CCE2-72B5-4D4B-B003-F8FBB8F4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343B-1223-4D21-888F-7035C821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39F70-0E57-46D3-863B-F34F36C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E2D81-5DC5-46F8-AE6B-8628C56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FC43F-6A52-43D7-B8ED-5C3A156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F45-582B-46E3-A0B4-1759210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09290-81E9-437D-A505-3C4AC44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8678-EE55-4940-8E5E-9C111F2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8B67B-9D1E-4342-8630-C9C7652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131C-4324-4B33-A574-0FE294FE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34E1-F959-413C-B7F2-B283C289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39D2-2369-4E40-BEC3-6C7013B3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4D3E1-FFE1-4E11-89F9-E5298851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EF70-131C-4695-B630-76258349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E0540-9E75-4568-A211-D57AD85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8FA9-E0F4-4AEE-A550-8878C45D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629-8EA9-45AD-831B-E506F07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6C6E-7C3E-40E0-A734-D6449D6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B8D27-2787-46D0-A518-671F12C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F02F-049C-4E27-8DE5-274420A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5A78-5E33-46BE-B4B7-58FEE12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394F-B733-41D4-BBD5-42298CF9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70B5-F9DD-41A4-AF98-9DE877D3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9C15B-33F5-4BD4-B636-2953E19B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CAC-CCC0-4255-B4CC-866FFFECE5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0E49-01CF-4DCF-A0AA-4D6A7C17B6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C82-63E5-41A6-A7AD-2442A93AA9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2758-CCEC-4A87-80EE-8738C6CB57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97CB-DB28-4254-8E6A-7FE6DC09E1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D0A-61FE-4147-A695-E07ED9D19D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5F9-896D-402C-B568-63438DDAF5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19D4-4F5C-4169-B1E5-A3BD612CB7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" descr=""/>
          <p:cNvPicPr/>
          <p:nvPr/>
        </p:nvPicPr>
        <p:blipFill>
          <a:blip r:embed="rId1"/>
          <a:stretch/>
        </p:blipFill>
        <p:spPr>
          <a:xfrm rot="21149400">
            <a:off x="2927160" y="3398760"/>
            <a:ext cx="3654360" cy="263376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pic>
        <p:nvPicPr>
          <p:cNvPr id="367" name="Picture 15" descr=""/>
          <p:cNvPicPr/>
          <p:nvPr/>
        </p:nvPicPr>
        <p:blipFill>
          <a:blip r:embed="rId2"/>
          <a:stretch/>
        </p:blipFill>
        <p:spPr>
          <a:xfrm rot="21107400">
            <a:off x="3839760" y="3855960"/>
            <a:ext cx="3975120" cy="228132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pic>
        <p:nvPicPr>
          <p:cNvPr id="368" name="Picture 9" descr=""/>
          <p:cNvPicPr/>
          <p:nvPr/>
        </p:nvPicPr>
        <p:blipFill>
          <a:blip r:embed="rId3"/>
          <a:stretch/>
        </p:blipFill>
        <p:spPr>
          <a:xfrm rot="741000">
            <a:off x="6162840" y="3370320"/>
            <a:ext cx="2185920" cy="308448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3120" y="1484280"/>
            <a:ext cx="85377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35e01"/>
                </a:solidFill>
                <a:latin typeface="Corbel"/>
              </a:rPr>
              <a:t>ПРОЕКТ ВНЕСЕНИЯ ИЗМЕНЕНИЙ </a:t>
            </a:r>
            <a:br>
              <a:rPr sz="2900"/>
            </a:br>
            <a:r>
              <a:rPr b="1" lang="ru-RU" sz="2900" spc="-1" strike="noStrike">
                <a:solidFill>
                  <a:srgbClr val="835e01"/>
                </a:solidFill>
                <a:latin typeface="Corbel"/>
              </a:rPr>
              <a:t>В ПРАВИЛА ЗЕМЛЕПОЛЬЗОВАНИЯ И ЗАСТРОЙКИ ГОРОДА ПЕРМ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18" descr=""/>
          <p:cNvPicPr/>
          <p:nvPr/>
        </p:nvPicPr>
        <p:blipFill>
          <a:blip r:embed="rId4"/>
          <a:stretch/>
        </p:blipFill>
        <p:spPr>
          <a:xfrm>
            <a:off x="457200" y="239760"/>
            <a:ext cx="2521080" cy="10033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2"/>
          <p:cNvSpPr/>
          <p:nvPr/>
        </p:nvSpPr>
        <p:spPr>
          <a:xfrm>
            <a:off x="4417920" y="291960"/>
            <a:ext cx="4572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иссия по землепользованию и застройке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4367160" y="703440"/>
            <a:ext cx="4572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партамент градостроите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архитектуры администрации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9" descr=""/>
          <p:cNvPicPr/>
          <p:nvPr/>
        </p:nvPicPr>
        <p:blipFill>
          <a:blip r:embed="rId5"/>
          <a:stretch/>
        </p:blipFill>
        <p:spPr>
          <a:xfrm rot="741000">
            <a:off x="6059520" y="3421080"/>
            <a:ext cx="2185920" cy="308592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08000" y="44280"/>
          <a:ext cx="8929800" cy="1554480"/>
        </p:xfrm>
        <a:graphic>
          <a:graphicData uri="http://schemas.openxmlformats.org/drawingml/2006/table">
            <a:tbl>
              <a:tblPr/>
              <a:tblGrid>
                <a:gridCol w="4968720"/>
                <a:gridCol w="3961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ект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КУ ПК «Управление капитального строительства Пермского края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менить границы подзон Ж-2 (П 0,3), Ц-2 (В 8 эт), Ц-2 (П 0,3) территориальных зон среднеэтажной жилой застройки (Ж-2) и обслуживания и деловой активности местного значения (Ц-2), включив в границы подзон Ц-2 (В 8 эт), Ц-2 (П 0,3) территориальной зоны обслуживания и деловой активности местного значения (Ц-2) земельные участки с кадастровыми номерами 59:01:4410396:58, 59:01:4410396:3652, 59:01:44103696:3651 по ул. Шпальной в Дзержинск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т 09.10.2019  №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1280" y="6093000"/>
          <a:ext cx="8964720" cy="549000"/>
        </p:xfrm>
        <a:graphic>
          <a:graphicData uri="http://schemas.openxmlformats.org/drawingml/2006/table">
            <a:tbl>
              <a:tblPr/>
              <a:tblGrid>
                <a:gridCol w="4427640"/>
                <a:gridCol w="45370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П 0,3)  с коэффициентом плотности застройки 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0,3)  с коэффициентом плотности застройки 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В 8 эт) с предельной высотой зданий, строений не более 8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6" name="Рисунок 11" descr="шпальная.jpg"/>
          <p:cNvPicPr/>
          <p:nvPr/>
        </p:nvPicPr>
        <p:blipFill>
          <a:blip r:embed="rId1"/>
          <a:srcRect l="0" t="17852" r="0" b="24401"/>
          <a:stretch/>
        </p:blipFill>
        <p:spPr>
          <a:xfrm>
            <a:off x="58680" y="2205000"/>
            <a:ext cx="4368960" cy="36324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2" descr="шпальная2.jpg"/>
          <p:cNvPicPr/>
          <p:nvPr/>
        </p:nvPicPr>
        <p:blipFill>
          <a:blip r:embed="rId2"/>
          <a:srcRect l="0" t="17852" r="0" b="24401"/>
          <a:stretch/>
        </p:blipFill>
        <p:spPr>
          <a:xfrm>
            <a:off x="4643280" y="2205000"/>
            <a:ext cx="4368960" cy="3632400"/>
          </a:xfrm>
          <a:prstGeom prst="rect">
            <a:avLst/>
          </a:prstGeom>
          <a:ln w="0">
            <a:noFill/>
          </a:ln>
        </p:spPr>
      </p:pic>
      <p:pic>
        <p:nvPicPr>
          <p:cNvPr id="378" name="Стрелка вправо 9" descr=""/>
          <p:cNvPicPr/>
          <p:nvPr/>
        </p:nvPicPr>
        <p:blipFill>
          <a:blip r:embed="rId3"/>
          <a:stretch/>
        </p:blipFill>
        <p:spPr>
          <a:xfrm>
            <a:off x="4078440" y="3840120"/>
            <a:ext cx="10112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9:12:28Z</dcterms:created>
  <dc:creator>Vasileva</dc:creator>
  <dc:description/>
  <dc:language>en-US</dc:language>
  <cp:lastModifiedBy>kazachenko</cp:lastModifiedBy>
  <dcterms:modified xsi:type="dcterms:W3CDTF">2019-12-12T10:32:31Z</dcterms:modified>
  <cp:revision>1476</cp:revision>
  <dc:subject/>
  <dc:title>Слайд 1</dc:title>
</cp:coreProperties>
</file>