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605-33BD-43D5-8E84-3BB96F6A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E46-BE49-4250-9DAD-B09EE5F5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127-CA49-4DE6-9DEB-61FDC0C5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8DD-8D49-4EA4-9255-AE8FCC60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07C-1B6D-4E20-8105-F52A3F41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2DD-0517-4D19-A7EA-8E040B57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32F-1082-4472-8CB9-E274BEB9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21C-48A4-4E4D-AACB-D5CDBA5A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140-469C-4837-9BB7-ACE74601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CC1-1D94-42ED-ABB2-1C4481E0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0CB-5EDA-45C3-8260-1D007A2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B55-2C7D-4392-9F98-F2563C74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743-9905-4AEA-99AC-8AB7EBAF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2040" y="-417600"/>
            <a:ext cx="11009520" cy="76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950760" y="-426960"/>
            <a:ext cx="11047320" cy="77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03240" y="-465120"/>
            <a:ext cx="10952280" cy="77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912960" y="-474840"/>
            <a:ext cx="10971360" cy="78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941400" y="-474840"/>
            <a:ext cx="11028240" cy="78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9:26:06Z</dcterms:created>
  <dc:creator>user</dc:creator>
  <dc:description/>
  <dc:language>en-US</dc:language>
  <cp:lastModifiedBy>user</cp:lastModifiedBy>
  <dcterms:modified xsi:type="dcterms:W3CDTF">2008-07-03T09:36:04Z</dcterms:modified>
  <cp:revision>2</cp:revision>
  <dc:subject/>
  <dc:title>Слайд 1</dc:title>
</cp:coreProperties>
</file>