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85075" cy="10487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DCE-478C-409E-A6E8-FD7C56E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682452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9080" y="6061320"/>
            <a:ext cx="682452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C01-9FA6-4E80-B66D-A2397604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64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606132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76480" y="606132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39B-0C57-4BD2-AB23-96EEF44E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6320" y="244584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3560" y="244584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9080" y="606132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6320" y="606132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3560" y="6061320"/>
            <a:ext cx="21970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740-EE84-4495-8AE1-7BC12B26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9080" y="2445840"/>
            <a:ext cx="6824520" cy="69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2BB-9788-4C59-AB89-8DC50E5C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682452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B71-379A-460D-A82F-76812C8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333036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76480" y="2445840"/>
            <a:ext cx="333036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C51-B418-45EF-9F80-22FD056B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A07-454F-4C64-9D9E-7DC4D93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080" y="420480"/>
            <a:ext cx="6824520" cy="81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19F-E5E7-44AF-9B92-2176472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76480" y="2445840"/>
            <a:ext cx="333036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9080" y="606132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382-944A-4AC1-BCF1-DDA37BE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333036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764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6480" y="606132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CD9-2868-4BD0-8A43-D14BAD9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90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76480" y="2445840"/>
            <a:ext cx="333036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9080" y="6061320"/>
            <a:ext cx="682452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243-AA67-4FF3-A6B5-5B1C7B8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9080" y="420480"/>
            <a:ext cx="6824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9080" y="2445840"/>
            <a:ext cx="682452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9440" y="9550440"/>
            <a:ext cx="17683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9550440"/>
            <a:ext cx="2401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5640" y="9550440"/>
            <a:ext cx="17683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497-17F0-463A-A5AF-730A0184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35520" y="41400"/>
            <a:ext cx="1849680" cy="3776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10 июня 2008г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02080" y="411120"/>
            <a:ext cx="3181320" cy="11448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lfaen"/>
              </a:rPr>
              <a:t>СМ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0840" y="736560"/>
            <a:ext cx="5870520" cy="3650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На выполнение рабочего проекта на капитальный ремонт здания МДОУ «ЦРР- детский сад №226</a:t>
            </a:r>
            <a:r>
              <a:rPr b="1" i="1" lang="en-US" sz="1200" spc="-1" strike="noStrike">
                <a:solidFill>
                  <a:srgbClr val="000000"/>
                </a:solidFill>
                <a:latin typeface="Sylfaen"/>
              </a:rPr>
              <a:t>» </a:t>
            </a: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города Перми по адресу : г.Пермь, ул. Танкистов,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55520" y="1643040"/>
          <a:ext cx="6336000" cy="4869000"/>
        </p:xfrm>
        <a:graphic>
          <a:graphicData uri="http://schemas.openxmlformats.org/drawingml/2006/table">
            <a:tbl>
              <a:tblPr/>
              <a:tblGrid>
                <a:gridCol w="428760"/>
                <a:gridCol w="2019240"/>
                <a:gridCol w="1017720"/>
                <a:gridCol w="785880"/>
                <a:gridCol w="461880"/>
                <a:gridCol w="799920"/>
                <a:gridCol w="822600"/>
              </a:tblGrid>
              <a:tr h="64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Наименование работ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расчет стоим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748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то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змер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т-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в рубл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ЦПР    «Объекты  жилищн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кого    строительст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003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Рабочий проект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Гл.4 Т.12 п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апитальный ремонт з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-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пециального дет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Рабоч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1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87347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Sylfaen"/>
                        </a:rPr>
                        <a:t>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6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873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ада  S=794,2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окум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.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(127,32+0,34x794,2)x0,85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сно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,075x2,58x0,2=1873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олож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-1,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78588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Райо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ап.ремо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топл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 в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метная д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400">
                        <a:lnSpc>
                          <a:spcPts val="935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lnSpc>
                          <a:spcPts val="935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-2,58 Инфляцио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7000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исьмо федерального агентства по строительству и ЖКХ (Росстрой) №ВБ-1302/02 от 04.04.200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758880"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8734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НДС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6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58680" algn="r">
                        <a:lnSpc>
                          <a:spcPct val="10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372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 gridSpan="2"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того стоим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846000" algn="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2107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200240" y="7043760"/>
            <a:ext cx="5770440" cy="33336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lfaen"/>
              </a:rPr>
              <a:t>Итого по смете; 221070,2 (Двести двадцать одна тысяча семьдесят рублей рублей 20 </a:t>
            </a:r>
            <a:r>
              <a:rPr b="0" lang="ru-RU" sz="1300" spc="-1" strike="noStrike">
                <a:solidFill>
                  <a:srgbClr val="000000"/>
                </a:solidFill>
                <a:latin typeface="Sylfaen"/>
              </a:rPr>
              <a:t>копеек 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0120" y="6753240"/>
            <a:ext cx="1619280" cy="8780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Заместитель директ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5375160" y="7835760"/>
            <a:ext cx="343080" cy="34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8" name="picture" descr=""/>
          <p:cNvPicPr/>
          <p:nvPr/>
        </p:nvPicPr>
        <p:blipFill>
          <a:blip r:embed="rId2"/>
          <a:stretch/>
        </p:blipFill>
        <p:spPr>
          <a:xfrm>
            <a:off x="5808600" y="7835760"/>
            <a:ext cx="539640" cy="452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9" name=""/>
          <p:cNvSpPr/>
          <p:nvPr/>
        </p:nvSpPr>
        <p:spPr>
          <a:xfrm>
            <a:off x="6383160" y="7980480"/>
            <a:ext cx="1028880" cy="150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Федосеев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7:49:42Z</dcterms:created>
  <dc:creator>takaeva</dc:creator>
  <dc:description/>
  <dc:language>en-US</dc:language>
  <cp:lastModifiedBy>Бухгалтер</cp:lastModifiedBy>
  <dcterms:modified xsi:type="dcterms:W3CDTF">2008-07-16T06:41:18Z</dcterms:modified>
  <cp:revision>4</cp:revision>
  <dc:subject/>
  <dc:title>Слайд 1</dc:title>
</cp:coreProperties>
</file>