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4ADD-DC41-4F8F-A76A-C502D4B4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3E9-BE0B-435D-8EB8-E960ED5C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0909-05F7-4A7C-8BAA-2C69D68B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B95-EE45-4E34-BF4E-D8E8E9A0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0023-C8B4-45E9-A9F0-F00F0A87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107A-F5BE-48CE-99BA-3251FB8B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3FED-AE58-4474-8BFB-B4EA0514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1D28-DEEF-4826-861D-ABACA0DE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DB84-D0C1-49BC-9D70-56BC08D5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A558-2C5C-4FD7-9A3C-0B70E7C9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C63D-D0E0-480B-8E56-EA712C6B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4107-44A4-4137-A4A3-F0637ADE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5CCC-A2A1-448A-AD31-C5EAA00F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F7E1-DFCF-4993-91DA-56381E5E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250A-BAD0-4987-A4F7-D2881A71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FE1A-5879-4504-815E-BF552574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44DF-58F3-4460-8475-BCDC8283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436-9DE4-47AE-B532-9A9DFAF6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CDB-8C70-4A82-A472-FB9F5BF5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5AA1-6913-466D-A151-49C0B895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753-CB40-4B80-8876-5FBABC58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A8E-A8F2-4B38-8267-AA0A0143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1EB-696B-4016-AD20-1C6C77AE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BF0-230E-4C4B-9D21-EC9F5DCA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ABF9-C2F8-46C4-AE37-62E8BF5CCC9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A809-8D24-4F75-A862-C7CA51A8E1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1-ый городской форум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«Город-детям!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лощадка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«Мое образование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 ходе обсуждения мы выявили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ледующие проблемы 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школах отсутствует толерантная среда, нет целенаправленной работы по ее развит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сутствие системы профилирующих про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сутсвие условий для доступа детей с ОВЗ к обучению в массовой шко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т площади для диалогв о качестве образ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реализовано право на участие в управле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 связи с этим мы выдвигаем следующие предложени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ведение мероприятий по воспитанию толерантности как учителей, так и уче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действие с организациями представляющими проф. практи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ектная деятельность при создании системы профилирующих про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условий для доступа детей с ОВЗ к образованию в массовой шко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городского парламента школьник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08T20:02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